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7.png" ContentType="image/png"/>
  <Override PartName="/ppt/media/image126.png" ContentType="image/png"/>
  <Override PartName="/ppt/media/image125.png" ContentType="image/png"/>
  <Override PartName="/ppt/media/image124.png" ContentType="image/png"/>
  <Override PartName="/ppt/media/image18.wmf" ContentType="image/x-wmf"/>
  <Override PartName="/ppt/media/image6.wmf" ContentType="image/x-wmf"/>
  <Override PartName="/ppt/media/image112.png" ContentType="image/png"/>
  <Override PartName="/ppt/media/image79.png" ContentType="image/png"/>
  <Override PartName="/ppt/media/image36.wmf" ContentType="image/x-wmf"/>
  <Override PartName="/ppt/media/image130.png" ContentType="image/png"/>
  <Override PartName="/ppt/media/image54.png" ContentType="image/png"/>
  <Override PartName="/ppt/media/image11.wmf" ContentType="image/x-wmf"/>
  <Override PartName="/ppt/media/image19.wmf" ContentType="image/x-wmf"/>
  <Override PartName="/ppt/media/image7.wmf" ContentType="image/x-wmf"/>
  <Override PartName="/ppt/media/image113.png" ContentType="image/png"/>
  <Override PartName="/ppt/media/image37.wmf" ContentType="image/x-wmf"/>
  <Override PartName="/ppt/media/image131.png" ContentType="image/png"/>
  <Override PartName="/ppt/media/image73.png" ContentType="image/png"/>
  <Override PartName="/ppt/media/image58.jpeg" ContentType="image/jpeg"/>
  <Override PartName="/ppt/media/image55.png" ContentType="image/png"/>
  <Override PartName="/ppt/media/image12.wmf" ContentType="image/x-wmf"/>
  <Override PartName="/ppt/media/image51.png" ContentType="image/png"/>
  <Override PartName="/ppt/media/image30.wmf" ContentType="image/x-wmf"/>
  <Override PartName="/ppt/media/image8.wmf" ContentType="image/x-wmf"/>
  <Override PartName="/ppt/media/image114.png" ContentType="image/png"/>
  <Override PartName="/ppt/media/image38.wmf" ContentType="image/x-wmf"/>
  <Override PartName="/ppt/media/image74.png" ContentType="image/png"/>
  <Override PartName="/ppt/media/image5.png" ContentType="image/png"/>
  <Override PartName="/ppt/media/image82.png" ContentType="image/png"/>
  <Override PartName="/ppt/media/image13.wmf" ContentType="image/x-wmf"/>
  <Override PartName="/ppt/media/image52.png" ContentType="image/png"/>
  <Override PartName="/ppt/media/image115.png" ContentType="image/png"/>
  <Override PartName="/ppt/media/image31.wmf" ContentType="image/x-wmf"/>
  <Override PartName="/ppt/media/image9.wmf" ContentType="image/x-wmf"/>
  <Override PartName="/ppt/media/image25.png" ContentType="image/png"/>
  <Override PartName="/ppt/media/image93.png" ContentType="image/png"/>
  <Override PartName="/ppt/media/image100.png" ContentType="image/png"/>
  <Override PartName="/ppt/media/image49.png" ContentType="image/png"/>
  <Override PartName="/ppt/media/image53.png" ContentType="image/png"/>
  <Override PartName="/ppt/media/image56.jpeg" ContentType="image/jpeg"/>
  <Override PartName="/ppt/media/image10.wmf" ContentType="image/x-wmf"/>
  <Override PartName="/ppt/media/image63.png" ContentType="image/png"/>
  <Override PartName="/ppt/media/image2.png" ContentType="image/png"/>
  <Override PartName="/ppt/media/image57.jpeg" ContentType="image/jpeg"/>
  <Override PartName="/ppt/media/image48.png" ContentType="image/png"/>
  <Override PartName="/ppt/media/image46.wmf" ContentType="image/x-wmf"/>
  <Override PartName="/ppt/media/image85.png" ContentType="image/png"/>
  <Override PartName="/ppt/media/image42.wmf" ContentType="image/x-wmf"/>
  <Override PartName="/ppt/media/image129.png" ContentType="image/png"/>
  <Override PartName="/ppt/media/image83.png" ContentType="image/png"/>
  <Override PartName="/ppt/media/image40.wmf" ContentType="image/x-wmf"/>
  <Override PartName="/ppt/media/image44.wmf" ContentType="image/x-wmf"/>
  <Override PartName="/ppt/media/image87.png" ContentType="image/png"/>
  <Override PartName="/ppt/media/image50.png" ContentType="image/png"/>
  <Override PartName="/ppt/media/image35.wmf" ContentType="image/x-wmf"/>
  <Override PartName="/ppt/media/image78.png" ContentType="image/png"/>
  <Override PartName="/ppt/media/image43.wmf" ContentType="image/x-wmf"/>
  <Override PartName="/ppt/media/image86.png" ContentType="image/png"/>
  <Override PartName="/ppt/media/image41.wmf" ContentType="image/x-wmf"/>
  <Override PartName="/ppt/media/image84.png" ContentType="image/png"/>
  <Override PartName="/ppt/media/image39.wmf" ContentType="image/x-wmf"/>
  <Override PartName="/ppt/media/image45.wmf" ContentType="image/x-wmf"/>
  <Override PartName="/ppt/media/image128.png" ContentType="image/png"/>
  <Override PartName="/ppt/media/image47.wmf" ContentType="image/x-wmf"/>
  <Override PartName="/ppt/media/image34.wmf" ContentType="image/x-wmf"/>
  <Override PartName="/ppt/media/image77.png" ContentType="image/png"/>
  <Override PartName="/ppt/media/image89.png" ContentType="image/png"/>
  <Override PartName="/ppt/media/image4.wmf" ContentType="image/x-wmf"/>
  <Override PartName="/ppt/media/image16.wmf" ContentType="image/x-wmf"/>
  <Override PartName="/ppt/media/image59.png" ContentType="image/png"/>
  <Override PartName="/ppt/media/image110.png" ContentType="image/png"/>
  <Override PartName="/ppt/media/image33.wmf" ContentType="image/x-wmf"/>
  <Override PartName="/ppt/media/image76.png" ContentType="image/png"/>
  <Override PartName="/ppt/media/image88.png" ContentType="image/png"/>
  <Override PartName="/ppt/media/image3.wmf" ContentType="image/x-wmf"/>
  <Override PartName="/ppt/media/image15.wmf" ContentType="image/x-wmf"/>
  <Override PartName="/ppt/media/image1.png" ContentType="image/png"/>
  <Override PartName="/ppt/media/image92.png" ContentType="image/png"/>
  <Override PartName="/ppt/media/image24.png" ContentType="image/png"/>
  <Override PartName="/ppt/media/image14.wmf" ContentType="image/x-wmf"/>
  <Override PartName="/ppt/media/image32.wmf" ContentType="image/x-wmf"/>
  <Override PartName="/ppt/media/image75.png" ContentType="image/png"/>
  <Override PartName="/ppt/media/image26.png" ContentType="image/png"/>
  <Override PartName="/ppt/media/image94.png" ContentType="image/png"/>
  <Override PartName="/ppt/media/image17.wmf" ContentType="image/x-wmf"/>
  <Override PartName="/ppt/media/image111.png" ContentType="image/png"/>
  <Override PartName="/ppt/media/image20.png" ContentType="image/png"/>
  <Override PartName="/ppt/media/image117.png" ContentType="image/png"/>
  <Override PartName="/ppt/media/image21.png" ContentType="image/png"/>
  <Override PartName="/ppt/media/image118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80.png" ContentType="image/png"/>
  <Override PartName="/ppt/media/image81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07.png" ContentType="image/png"/>
  <Override PartName="/ppt/media/image108.png" ContentType="image/png"/>
  <Override PartName="/ppt/media/image109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notesMasterIdLst>
    <p:notesMasterId r:id="rId51"/>
  </p:notes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  <p:sldId id="283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notesMaster" Target="notesMasters/notesMaster1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slide" Target="slides/slide28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dt" idx="14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 type="ftr" idx="14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 type="sldNum" idx="15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4FE2-E6E8-4A9B-94D7-2998EF24FD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A46C-D31C-4DB0-8828-445E0A004DA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852-7F13-48C3-A2DC-7D013867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A4D-3B3D-41DE-ACB6-FBA5BDBA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60ED7-9A19-4D9B-A8B4-92C7C1BD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3A3E8-A7DA-4C24-A457-BC4AB754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2607C-C83A-4761-ABE7-D5D5C743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1985B-DDA0-482C-9D00-BFC20F51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79D0F-4565-4A47-AC03-33F6F97B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FB5CF-ECB7-4BF8-BDEF-75A03522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19533-9DDE-4929-8FF5-E6C89EC0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0F7F6-28AE-4ED2-B105-0B3BEC3E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F3AD7-FA7E-4898-B9B6-1D68BF1B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37B3A-0428-4C88-87EC-F0065E47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F43-96DA-4A6A-BFF5-65B9FF8D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2AA34-B9C7-4A54-A81D-F89A8448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5650A-772A-43DD-8CC7-B7AF8A4E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8CF18-AD35-4A4B-B9DA-711B9CFC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59584-AFE9-47CD-9554-32BB8A9C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98ED8-C20C-4E0F-98AA-4DA5E2C0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AB93F-C656-4514-80AE-2EA67390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9BC91-3324-4D85-B14A-89571E32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6EFBA-4C01-4A0E-991B-5598D358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ECEE2-F267-4CD8-841D-F2A8F9D5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4F369-41CD-4907-B9C2-9EFF5A12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EC6-685B-4A50-B012-4AF07751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E85A8-C319-4168-ABB0-F92F9FC6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53210-73FB-41DF-8E10-AC71DBAF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3F02C-ED60-49CE-94C8-C6664BDB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4EA2D-4B19-4D6E-A359-4C493594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BAA8F-24BE-4CF2-956E-B27A42AA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0BADD-1CF5-47C2-AC8F-6901B0E3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6F5AF-EABE-478E-A7B4-E6A87F02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85710-6857-4D90-93A1-E5FCF3B2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B1E27-8B57-4032-A3AB-E7936053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CFDA7-AF87-4678-9D2F-E3F27327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1EDD-CC96-4AC9-87A9-FC7A39BB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4A4C1-E673-4709-921F-E35C5AFD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8880B-AB27-4338-A68F-41DF79B1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8B675-3F01-4A21-B6CD-4DD6215E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421C9-E53F-45DC-9834-8381F77B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5FDF1-72A5-4CA6-A591-E928E39D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AC733-BF9C-443A-97E4-1F06D2E1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CF9B6-515B-461F-A08B-F4C3496A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72B74-E425-47FD-B57F-CB523C83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85271-8481-403A-A0CD-59526A4E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5D447-A201-4653-996E-B54A5615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616F-3C45-4125-BABC-AC14A4A3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7FA90-72B6-41E5-8C9A-7FA71F01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FFE80-17F1-417A-B496-F8039B11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4A8C5-DA23-481E-91C3-EAEFBE0D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AD7DD-F952-4112-A854-5DBAFA56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D643A-6FE0-4D1F-9BF1-B6B180E5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A2E90-4C81-437D-A73C-A95D59B0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DEE5E-EABC-47C7-B97D-A647CD89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8EB6E-977C-47FB-AD5D-F5807A01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8D2D5-F108-4610-9CBD-CA5CFBF8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48B0F-B2E8-4A77-9999-83F6E56A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CA8B-F68C-4557-98C7-A99E29B0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67061-1ABC-45AF-8D16-D1CE5A85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F2D0F-4DFA-4D8A-8225-7BDCEB37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B2020-4EB8-46F8-B8DE-5993F5AB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1E7C9-DC6E-45B6-8AB0-D4B96829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AAEE4-F85B-4AE8-9260-DF5EE58E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8322C-12B9-4027-A823-3B8F2FAF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1AD45-CB8D-4D7C-9356-C9FA7A12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D51B4-EB6D-4C42-8DFA-10525D6C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20CA4-7951-4084-8C38-621F904B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F732B-0E0F-4A2E-98C1-6A7F827A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0541-7F2C-436D-8703-52115C37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9BEB8-9E9C-438F-9E3B-A0EE21BC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69554-445D-4F1C-A368-254D2426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E824C-5213-4AF4-9688-F3960460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D56B9-56D0-4180-B5BB-B6EE1851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20799-9B6B-48F9-AA28-850068A3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56A0B8-4894-4B8C-B1D9-C39590D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FE20B-B0E1-4E76-96C3-A3F557F4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BAC4F-33B1-47DB-A265-B843E612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00450-0709-43DD-93E7-32754E92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79394F-4BA2-41A9-905E-F9268FE7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3DA6-AFBF-43F3-9977-CB973B15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FF98B-A78C-452E-946D-701D51F2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2DD7F-BE26-424C-A130-06DAC89E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58795-1B37-4DAE-9556-96683235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BBC5B-71EE-4FF8-8F9B-5325D128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C117C-97F0-4E4A-926A-FD1E8597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1E1C6-D93F-4C99-8FD8-4AED189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2A04E-C2BF-456E-AC79-EFE4FBB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635CB-ADF6-4846-88C9-08C78C6B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BA147-0149-488C-B226-769FC97C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FC7271-5EF6-4D82-AF2C-20A54289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0B6F-C886-461B-9BF6-04790F37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5A123A-310D-42BE-AF99-7B6D2C8F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8BEAC-E1A3-41CB-9E74-B51F7BC7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B03BA5-C4AF-4A7F-9D2B-34A49E0B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77B26-0688-4942-9D2F-1B55938B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C5688E-0772-414B-B307-DF40A374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2E66E-D636-43E0-B6EE-0B3A2133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FC546-625A-45D0-B812-51468C2F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E8C47-3B71-4416-BF6B-D95138BD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769A7A-359F-456D-B444-87FE77ED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64551-47DA-49F1-9447-508E8889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112C-EB90-4C6A-8A9A-A1FCA862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68684-2EE2-49EE-988F-6A348352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5E57A-447D-4A78-B9AD-B4E67B03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AD0A7-118D-4C8F-B59E-DDA7F436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A92B33-6ACA-4C5D-B655-9380FE0E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C44A88-0046-4A4F-8313-B2A92C8D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B0C18-A3CF-4F3B-81E0-35F48224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D05EE-6FC5-4556-8F4E-749309CC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0B6BF-1741-4381-B864-F08F953F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BF3D7-4E64-4E14-B5E7-5402D6BA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B8A33-30D1-42BF-B624-5E375B2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E4E-23B1-4AC9-872A-68B67C4C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484E-2265-4B49-8AAD-07D0083A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9AA5C-F06D-4E6A-A734-626BDC9F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56E73-9974-4524-A5B3-55795D4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DF760-601E-4BC5-9769-8B61E45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91D8A-C265-4EB5-B93B-2F4ECD05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2E50A-7502-4963-A60A-E4D6E8B2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B813A-D8D4-4A22-8395-7837351C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9AEB8-9220-42FA-BD37-E9F362B6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B2BC0E-CDB6-40B7-B066-4C133B54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79EC64-2821-4209-B258-28786BF9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D08405-E405-40B7-AB93-DF618060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FC14-19A2-45D7-9DAB-11CC048D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D5D23-614D-497C-AE6F-B33526D8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D61CA2-7AB4-49A2-B289-7755EDA9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2E50AD-BF90-456E-9E58-691D2C8E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10454-390E-462B-8E31-C989EF4D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3D0F27-D50F-46DB-B276-44EC8F5E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EE9238-34F4-4559-BD7B-9DCCBC4B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706B8-9FA0-451F-B293-87E878EA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0A372-E276-49A7-9BCC-0DF5ABDA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9ECC0-A392-4F97-A3DA-CC5A03FB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57772-0C46-483F-8171-C5E914F5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7616-1246-4093-81BE-3CCB3B64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941430-833D-4B61-BCED-DEE71801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4A3B7C-3FA6-4E31-835A-A8DF6E45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D524B5-AC1D-4D1A-9D42-21689C2D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3884E4-855D-4652-A8E0-8B15595D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9260B-9AD3-4370-A955-A7B79C4B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A46BE-BE17-419E-87B6-8A6DC49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094F78-63B0-4F0C-A978-F0FA7403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D597C0-B201-48CB-820B-69C5565B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3C3565-2391-48A7-A06B-110EEBB3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9DC8B-3BCB-4D44-B29C-A231FDC7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D5DE-77EA-4BAA-891D-55312EF4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9E531-9109-4192-B7FE-EEEB98DF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7AA77-4DE2-4C9F-BB1C-9D9E94CF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B3642A-DE57-45A2-A1F4-89BEDB6F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03728-3AFD-4E9C-BB45-5D1D0797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A8761-A5E2-4454-81E3-6D01E45E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6A167A-A39C-4742-BA7C-913987D8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A42844-DD9B-4B01-895D-D3035A2C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00576-3527-4959-B3F2-40F08D28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C5C344-73C3-4BAA-8C94-47A9EDE2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3FEE4F-6918-4F71-ACAD-D452FEE9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251F-ED59-4459-8138-20F8B41B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0E0D0B-2BD7-4EF3-B83D-9969CE48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A5F84-2AEC-45DC-94D3-EAE12863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D534CE-8C89-4FC8-B579-EDA563D2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1EB6DE-C94A-4B49-8269-24844FF7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F7B39-4EDB-405D-9A30-E178CBE4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77E1C0-B912-4C32-8F9F-3A38CAE4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06ADEE-5B4E-4534-915B-991BAB9A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8191B4-0616-4A83-84BE-D8E8E590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6B609A-13EB-4002-B142-779C7732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ED8D42-D7D8-417A-B2F9-58BDC928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30C9-E518-4557-B3A3-8F473C13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F6E56D-8F52-4ABA-B90F-A2ACE6A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C03001-3459-45AE-9F34-F9DA06C9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D8BDDA-FB05-4C25-90A9-7493D94C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B3640F-988D-4EF8-AD4D-8765C30F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E45686-C00D-4A0C-89A3-8D6042E6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E030A0-37B7-4CF9-BCB5-D9BA094B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F050D2-876A-4AE1-8F7C-2D523A1C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8F33B9-9FE7-465A-9E1A-428C08E3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4D5CBA-957F-49E7-A9AF-007599A9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4C4A13-6540-4442-A8AD-2DA798B9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A56F-EF1D-458C-A9F1-D064FAB4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F4E85D-0BA1-4491-858F-CDDE646C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A512EC-F47E-4E81-AD94-BA11CDE0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103AF2-6F57-45A7-91DE-467EC373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0E17FC-E4F7-4E08-AEC3-F276BDA4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053DE6-DE35-4230-B8E6-F3AD5DCB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1F409D-9EA0-4E6F-8B10-79792BAE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5842ED-657B-4117-A3D1-E5091CA6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62078F-292D-4258-AC78-03D094D2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E1214C-A5F8-4D21-B7BF-FF47EA9A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4B4029-DD77-444C-B6D3-35EA53A1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C8CB9-F935-4D11-820F-07BE6442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413CC9-9753-45E4-A35E-0B6B9606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84603B-3FFC-43DE-BC51-C8D1F8C9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260934-F586-450F-AF61-B034FD6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615C48-9DDA-4F76-BF4A-9C49F6A5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BC0174-0D1D-4B13-AC09-6FF7ECD2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3034F9-5DA4-4DD1-8170-6DF4184B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180C8B-FCC0-475D-BEAA-4A854DAC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F4D2D3-F5A9-47D5-9EA6-7794BCA9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BACE6B-A64A-48D3-A4B5-96659725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DE2338-D4EE-4B4F-BBA2-D1002D46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9AA8-5CB2-4CD1-8231-54EE0860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9C3C0C-E666-400C-962B-995D210A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D7CC27-250F-46DC-A427-09CAD019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8E712A-55B6-44B5-8657-D014E885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1CDE61-2F23-401B-AC9D-ABB10223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86B2FD-10DB-40D9-A6F7-BDE117CA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1DBA14-DC94-4E12-AEE7-AB19DAB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6040B6-19D4-46FF-ADEE-9A236AC1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7E1DC9-2975-436C-A169-FCFDB5FF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FBF725-E285-4F31-B417-C4E79F17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2AAAA7-0AD1-42A0-A430-BDEDE7F1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C90A-59CD-43AE-B3C6-6062343C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C7C281-609E-4504-A7BE-FA087C7E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4F3E56-EB5C-4A9B-92F0-B0189619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02C067-0F64-434A-A26C-F427FE5C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C8CC71-94A1-4963-9E77-7E0D44E0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0C61EF-7AAF-4A9C-9844-0C382A03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01ACB9-4C12-466C-9EF9-FB690250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9AA9C8-CC85-4639-A8F3-33481E27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DF406E-BB14-4439-872C-A425DEF8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A3833E-7481-4382-98B8-883CE23A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287493-0F47-4854-85A0-705881E4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BC7-9CE2-4938-8F06-44931E7A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2506-B496-4484-A742-4F99375B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93718B-05FF-42B6-8B3E-C0CA2272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691C70-AD86-4ACF-A6E8-4B6398B4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8502BA-2511-44FA-9404-A27E83A7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46D7DC-A555-4818-9B71-276EC6EE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E1082B-C0FF-4430-A129-348BF25D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DED628-CC21-461A-A59E-87E3502B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4566A0-0942-4039-8952-97AD7487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268754-EFCD-44C3-982B-E21BBBD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55A261-3E52-4307-90CF-FE7BE8C5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F487C9-879B-42B0-A304-00D41F6A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203C-2B6A-4816-A575-EFC60EE2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61F132-E464-4FE8-A153-F2E41993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DC0BC3-2B00-4208-BC1F-061544A4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E6C8CB-6D93-4D0D-982B-C0D97229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DF0317-4590-4EE9-B927-A7CCD2A7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24ABF5-59CA-4E8A-986E-53CE3357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1F8E3C-1DF7-44D0-97EA-D27494C3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40E5B1-59CE-490B-B98D-F2055BC4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F5D955-44B1-4831-8A0C-E5B7257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87A459-9F2E-41EB-9920-92FBDF86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2D0683-EA7B-44AA-A6BC-520EABAB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8532-4E5F-4B8F-BA2E-8E3AABEB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2277DA-332D-464E-9764-E376C055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83A318-75C9-47B8-ADE9-F107FC43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795DFE-7C7E-45CE-9718-DE744BA0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6EFF6F-FD74-4051-A31E-B9389680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A7F8A2-8036-4E12-AB40-154CC91F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344C45-8348-4373-950B-8F731E67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28FB80-3893-4BDE-A2C1-1E9DF275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8652DE-56DA-4D3F-85C2-C799E693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6C45B4-1806-488D-BF4F-E46E24BD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48ABDB-3416-44E1-AB40-9A919B9E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0651-9EEB-49E3-A676-53DB422F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EA9999-E1DB-469C-9B38-EFA28614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8492ED-7CF3-4B0E-A47E-D3BCC839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33C51E-51B7-4E2C-AA4A-4BB19730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0FB52A-19B1-48B8-885C-DA5100E8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E15FF0-7EFE-46AD-8D09-F72EAFDA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78E9D3-5D2A-4476-A789-3848E149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B2375C-3FD9-4D19-B1D7-04DA7BAB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2A43FD-CC90-424E-8C2B-D3EA1DE4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F0E2E6-E711-4AE3-9298-2EA1D191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A6EDAF-5D68-48C0-B8C2-1948A922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A9F7-451D-41F6-9B4E-6662721F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1D3ED2-B5AD-4B58-8BCB-64D269CF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F67BF2-6ED2-465C-8B86-3FE46DEC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CA46B5-E1E6-4C81-A5CE-FF28B88A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32E718-24C4-457A-90CB-7454A01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CB2B39-455F-40F7-A7DE-7BB34E15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265B62-9DF9-4273-AA23-8CC23425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2D48DB-75C6-4CAE-8CAE-D0A671CB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33B665-A182-4B57-AFCB-901C7EF2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8C2810-4F5E-40F0-A1AB-82CBDF19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8703F4-E327-4519-84A8-CB7D4C8C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B5DD5-C0D3-4778-8870-30B6E944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4D8E20-AE80-4243-AD15-0F4DFF74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BB7C57-ED37-431C-8B79-701BFF37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07D3DA-6979-4D51-B775-AAF1C714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960587-FAF5-4E5D-B520-C74DE074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63AE6E-D2BB-4859-99B1-EEECC723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4E7112-5C0B-42C2-A3AB-955F334C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D512E1-9A7A-4EA8-9421-F218FB65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E16EA8-F359-4A16-9ED4-0820A95B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A0C743-F799-4FE4-9A42-34DF604A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CD360F-AD20-4FD4-8BA9-3696A851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0463-4E79-4EE5-95A0-8CEEE964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441C3C-59EA-4C4D-94A8-A4287BFF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AB2CDD-5217-41B3-9540-A323CA60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A8FF08-0458-4AAC-BC03-32DD30F4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DFDDC9-A589-4E44-B2CD-BC994B36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48DD8B-4B2B-4A10-8640-6BBEF564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950375-0C6E-4BA5-BC9E-49E66932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1084C2-21EC-4372-ACED-F99CA843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D0ED86-CE27-4B9F-A7CB-8D1C5C9F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0C6735-B58B-4DF9-A110-07797D93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D112A4-53B1-40DA-AE3D-6CFB511E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26659-DF47-4D2D-A06D-9EDC6168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41BA73-0483-4B62-A4E4-326DF27F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B0E961-0704-4E26-975C-B52EDB64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3FB06C-98AB-498D-9277-2FE3257A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2024A2-84B0-4F26-8E39-E9C5BAEF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93639E-429E-4797-8ADE-BF249AD9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BABBC9-270B-472C-BB7B-7800BF6E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4D848B-3F45-4478-9143-6987839F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B22579-6B8D-44CE-90A1-FE8E0710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329ADB-02D6-4838-A595-B9E2C2C2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0EBDD2-CFF6-48FC-A888-82D9D590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26F8D-6BB2-4726-B013-E4E8941A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040672-16F2-4EB2-9A03-8AFB7880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CC239B-1AE8-4D6C-A238-A81F111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80E792-774B-4BB4-9195-78268631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613A29-71F7-46CE-9E0F-C57B94FA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BEAB1D-0247-4DF3-A785-2E915DC6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3CFEAB-28B5-44CB-B7F1-6DD722F4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239DBD-54FF-44CE-A5B7-0A1D39CE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4760A5-3FC9-4872-BE2F-32184A32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8071F2-18DD-4603-82E8-3D25B4A5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4C3F66-0D34-4A80-97BD-A3B39A95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4AC12-EB46-4BAC-945F-450E0216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C102B2-EF18-4CB6-929E-081986C2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BB9BA5-DFE1-45F7-9FDF-02A32173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9C602D-CAB2-424C-98F1-0D1FB2DE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344C6D-135A-4FA1-BF22-6CF17841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591375-A0DF-46CD-AC73-A1867993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BC08BB-2ECC-4B5F-95DC-81BA00E0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A31AFB-D59F-4093-9576-6A9EDB96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49EAE6-416E-4978-9BA0-3E6DFFD6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E0E714-9967-4838-9753-7822DB65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65D8A5-2864-4F29-BB90-87EDA318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19E-387F-475A-9583-6001647B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83193-7235-45BD-8880-6EF85C73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161C52-25FC-4232-81BA-44330E76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4095D3-A0A9-40C5-8BD1-6949E36C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17EF2C-70A2-4772-B1EA-A942C40F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63C521-271D-4BB6-B660-F19F5148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3C2DD1-3B0D-4AB6-87D1-57414406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3977D1-6C17-456D-A2CA-EA81C33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1862F9-DDA1-4138-80A2-F2AF18D0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40F522-91DB-4727-838C-7450BC8C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B1762E-D9C6-4612-A3A7-F6CA6D18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AB26C2-2B0A-47AE-A290-4161F146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A235-6963-499F-993C-671BE695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36EE2B-333B-4C3F-BA02-B5B1610F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461B7B-E316-4CDA-A09E-E1378527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9D820C-225D-4329-95CA-1E09987D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A3002B-DA86-4001-8326-83288CCA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DC3E5C-11D3-4DC9-AD97-91BE890E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88DF97-AEA4-4373-A128-027A2529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4DDC93-BF47-4E8B-BB5B-711BDFBF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2DAB3D-AD14-4672-AB78-094825C0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8DB04A-F039-4617-9DDE-17F7EE63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06EDEC-A90F-4D28-A9E9-3835E9E9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4B0F-D466-4E71-8474-BA2EC605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27F3E6-F7CC-4138-9F34-FA10A645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DE5163-0DC3-4597-8DFE-97271903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C6BE64-2AF0-4891-BD42-076621AE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D68511-0AA5-4F3F-B5B4-E0FA3CC1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72B4A7-6F97-4460-BAAE-52616ED5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FC31DA-03D5-46E9-A91E-0D42B10A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0427B3-C8AC-44D3-8F05-02926B82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BCD7BC-62C1-4E26-A7BD-12879580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9F9326-4D3C-4D43-B946-368D0A30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AC1851-ACB4-4249-84D8-0296C25F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9592B-BA59-4783-A1A3-11075631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7205EA-42C4-4D8D-B4DD-E1069643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6A97FD-5071-483A-9722-54B55490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FC3103-6258-4F5D-B050-006E5AC0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316A49-2C07-4170-8010-B06047DC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A31CC8-25BB-40C6-95B6-753F18D9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33C0EA-16AA-4119-A030-6345BF41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8C1A2F-A5BC-435A-A2B5-9FA3B97A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A9CA4E-E2C2-4E79-AF38-52CDE828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6CD212-85D4-42AA-9E22-897183A9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8661AC-03EE-49CE-8430-A8E2ECCA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7775-64CB-4EB1-B016-38C80CF4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5F8E1A-D73F-40CC-9314-06434872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31CD43-4075-400A-AC56-546963FF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D93DC7-CC22-4685-B490-AD887D59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6FC75C1-3290-4E79-99D9-E8149781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47AFBDF-C0F6-4DA6-9ED6-63741EE4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631F136-B677-4C23-AD75-0BDEB63F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45EC625-71F9-41DA-8F62-105C6280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8352534-DAE4-4280-B082-8EB52F0D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90BBFC-CB0C-4B59-B030-DD3643C5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174A59-BBEC-4351-A1B5-B15C6133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E244-C361-4C47-89F4-6BC608D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1F11230-75A2-4792-8B23-0539CD04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150F7A-E9F2-487C-85A0-8898EADF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4AC7FE6-72F9-4254-ABB7-D6087035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D00822-8D06-431B-AC2E-E0706C00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8916F6-BB92-4175-AEC0-956A58AC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2C0D2D-3066-4EFC-8365-C6CC2F5C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667812E-FB5C-44D4-B35E-055C93F8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01683F8-EF94-4222-805E-CF049CF3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DCF87E-A24A-47ED-B6ED-FE9043DA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26CD0C-FE5D-4905-8531-7E3C8EDE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83B20-CC1F-47E3-A7E7-8449B7D5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891EA3-F749-46E8-8085-5C9BA061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5ECC05A-4BAA-4D4B-B65A-4DE864F0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03D906-F06F-4057-AEBC-A0C44772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C971D78-D15C-4814-9ED9-38CFD02C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530708-2FAD-4D29-9385-327C617C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FA4857-5BA5-4907-A942-8E9C18DE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35BB94-447B-42C4-8C42-6F509E16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CB7C5E-5B5C-4D19-9ACA-F089B55F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D7805D-EF90-43CB-A2B1-4E387445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EBBC7E-0866-44DC-A8F7-FE01683E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218C2-4105-4CD0-A2AB-BCF8D62E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B899F86-E2A1-4F04-BF35-F21656AA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32CD13-37FC-46FC-AA2E-F6187D6D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8A8A40A-8BE7-4046-9ECA-4EA66505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493D6C1-75D8-4A65-A093-D18A7C9E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C23725-4D43-4FCC-A093-4E8991BD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D17101-BE58-4CA7-B471-9F7BB0B9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9B18DCD-915D-4878-B464-EA0C5DD1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1A739A-FFD1-45EC-B18B-6FB5632B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80ABF74-788D-419B-B68C-05F18F95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794CC0-8544-40CF-BB90-37653BD7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70777-464C-459E-8C80-B78D8B86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BECACB6-6256-4813-87FA-EA56B214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A48983-4632-4D55-AE39-49CBCB72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FDAAA5-B876-4C3D-9BD9-0E39D870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33CD9E6-BA82-4851-A99E-E85C7E0D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EE27FF-AA01-4E22-A5B6-373D4AB0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9DB6B4-1841-4C81-A69E-A3A2BBF1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76B338-39A0-47E4-957B-E8BCA791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73FC0E-A861-4E61-AEBE-2DA0C254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5CC1959-F5B6-4586-90CC-17D8C2B4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BD4E2A-7A9A-4B12-9E44-31B49BAA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8D7CB-EFCB-43BF-AC0E-34BEE577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C7D01D-156A-47BE-9730-0742B967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4ED341C-325F-4EC6-AD03-914BB5D8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BE50B8-D164-47AF-BD97-8A02CF21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059B6B-1868-404F-A762-2E6CECEA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027D2B3-359F-431B-ACCD-5E111BE0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DA54FBF-BB27-41F1-AD47-808BEC2A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693929F-B0C3-4F97-8610-93F898C1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5C19CC-B392-4889-81AD-68D745D7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7DE1FE-F823-447D-A9E1-EDE67917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867A77-742B-4FCA-94C1-92FFDE8E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FE3-411C-4CFF-BC68-1EC6AC15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75170-1737-417D-A8A4-64907096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0D9398-C5C0-4D31-8FDB-636D9C75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3C3C5C2-6E18-4BF0-8637-FB97FF52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7266F7-A6D2-448A-9B02-2D0BFF88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FAD003-03CF-4FC1-9548-B89FB613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8818D2-F5E3-4541-941C-6D1759C5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A3C9CE9-02B5-4C7F-BCA8-092B83F4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B7872C7-B62B-446E-BF8F-89D5AAF1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1E7FA68-F846-40A9-8668-2E1B9134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B1D722-039E-4133-91AD-5734E918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5D7C18D-9C9D-4493-BBB0-2914D00A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97568-132C-4013-A6D8-C695E01B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5FF7AD-858B-46C2-AEDC-E960B37E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9A0502-BE49-4D4A-A79F-29035ED5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94BC7B-441A-45D6-B8B5-AEE007B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0AC72BF-DC9A-440D-BF13-EEEF9CF6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2228F0E-3E7D-44E4-8B11-0F459108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10E55E-63C5-46BB-A2A6-94DE661D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B5C6E10-E681-437D-A833-BA1F2852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B972AC8-6CF7-4AC1-B9C8-A7E7F0CD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A049EE-B6B9-488D-976D-3ADB00CB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D66312C-FD03-4361-BE61-330D9223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A9A40-8DC5-4A86-8C31-EC947326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13A1D1-8030-4AE5-A77A-90653203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0FF0E0-3785-44CF-AE3A-DC8FB743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D58BA6D-84EB-4B57-A862-3C8874E3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E2299A9-DFC6-4F67-A096-FF10D014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4E75ACD-1EE9-44DC-9995-CFCFC5A5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D24ECA1-CF5D-4987-9014-8777DE93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A717D81-3AE8-451A-AA87-3CE5F0A7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66FE3FD-A31A-46F4-AFAF-353F4147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2B8BF5D-68F5-4A24-8F2C-BC7C3E21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145C8B7-A202-4A1F-8DD1-64A95BE3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5B7D3-ABA8-4825-B391-330CA449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13E3904-332D-480B-9409-BC27D64E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E47BD19-1F08-4798-B0BF-95F9C196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81B845-FD61-47EF-A7AD-AD92DDDA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6FB7459-D5E7-417B-BDD0-4D176524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6B807C4-0C9A-44A4-80B0-3F38882F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5028A05-73E6-4985-B309-180BDAA7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00F282F-BD91-4ACA-85D6-F25341AC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F42E961-78EF-498A-BF0F-29107701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72BCAB9-8C74-4DFE-88EB-D8307E4C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046B83B-7B65-4C84-A7F5-7B48A23E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5CCCD-833B-4526-BDEC-8F4EF08E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15CA6D1-82A7-4131-85D1-9B000862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7F758C-013A-49A6-98C5-2C2D3C9F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515FBB8-C75F-4808-83C7-BE0CF394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4DB9F4A-D279-4A55-9F60-AF4197A8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38A3E0F-CCB4-4671-B90F-E6D3E16A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46DE88C-AA00-44C9-9B13-247A987C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AEEC5F-22A8-47A5-B637-6178FAF0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60F0112-DCE8-442E-AB92-B3B31F9D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549D786-53C7-4CC3-94E9-1D674D6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8E90074-F0EC-4410-BA3C-8415F31B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B4E9B-4638-48E6-81EC-576DA474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CD7CB1A-70A0-4644-A182-CD7FC87E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8E7D4B3-1F29-46BB-BD6C-605420B7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DC23F70-171F-4AF2-992F-59E252AC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E770325-F8D1-4406-B232-3C02AB83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9AC30CF-F763-43E7-B70C-4382CA46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4C5DD3C-CD0D-47E1-8F08-FD68E4D0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8A605F5-E1C1-4BB3-B948-ACA118CB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3A3C1D6-A3F7-4B27-8C9C-EADC7764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A50BDC-94C2-41FF-B917-AE31B6D7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4951018-3797-429C-A45B-2BFF446E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DBE0B-B858-4730-A743-74A1092F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5933BC1-0DA7-4254-8DE1-00D2AB8E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A1C3557-2252-4647-B87D-1733B33F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45F2F0-8A3A-4379-9334-D7E15B29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97AE1D3-3314-4094-AEC2-543C6F5F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99BC5B-0F1B-47AF-9FEF-7A382918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110BF8-1E30-4C02-9D37-99C03A26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9FD57C-85C4-42C9-8F28-BA11AD1C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D9D1235-1B1A-4AC3-82D4-0239FFB1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F7B9EB3-221C-4961-90B8-0D66539D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9E09C31-3F88-4E98-940F-62769D84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23CC9-A4AE-4411-AE59-BE6493C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ACAC508-6C45-4FF2-86A1-0584705B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D949AC-2C5B-4549-ADD9-D899B1C8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4557BA-91BF-48ED-B1B3-D2997755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6AAF9AE-BBF0-4A78-96B5-7F29DE8F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59DF897-D5A0-4B64-91F2-6673E32E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0FF8A91-6AFF-49B3-8889-9E3AD1FF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FE975F7-39B4-4EC5-8772-0DE57B84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997C0CD-A266-4794-BDA7-52D52D58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7FC4124-F38F-43B6-A99D-691BCDAE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3BF9772-4AE1-4005-A824-17057883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28431-CD12-40CE-94B2-FCA9F911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A4EF168-D99F-41D8-BDFF-594F9658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62BB2B1-CB04-4A7C-BBDD-1B6F58A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D11A4C-C727-4B4A-923C-9C6226BE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57DA98C-39C5-4D1F-B2F2-466E82F0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6D7C4EE-AB2D-48CF-A1A9-0D1608C9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E3E1B2B-992F-4088-A852-9ADB5361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77C6713-4CE6-4E58-99C6-A709FCF7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1DB7B0-7B45-4E3A-B233-A7A81D7C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8C1F51F-A5F5-4C5F-9476-760709F9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2F77-A39A-4C0B-8B53-610B6707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964-4BD9-4C68-92BC-1FA55FBE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E30E2-AEDD-4E7F-9B5A-B7983E5D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89CAD-7AB2-4BF8-9A2E-36C1D0DF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9FC12-B412-49E6-9C3F-9F25C70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37AC7-0041-4120-AE80-0E55D65D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1F803-4CEE-4D63-9EF3-2DFB761E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5D866-ABDD-4619-B0C4-613804AE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58C5D-538E-485F-90C9-175C7EB4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F2F4E-2513-45CB-B8A4-23412070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DD5C8-BEA7-4B94-B300-29BEF9C2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5C9AD-0624-4437-A25F-54447809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780-BB97-4471-9D78-41B81A9E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B2637-AFFB-4769-BC32-7BC4D81D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6B61-B968-497B-B03C-55D3E8A5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A7C0E-5DBF-4DC0-AF38-57CDE78B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57100-721E-4A5F-99F1-29EEE3E4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F4E1A-9B72-40D1-A07A-69A2525C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D3BD8-64E1-4D17-A8AE-2EB1EDB1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34C57-F67C-480F-B737-1B128A5E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9AF7D-3DCC-496B-B785-FAD9C8DF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56B36-7FF0-492D-B28D-7C1BC97A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A29EE-8E8A-43F1-B100-F030D957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B4A-DDCC-4D3B-B281-0C72F41B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2585E-F416-461B-934E-24026D7A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F5922-0A97-4876-AEF8-7A4AD471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B0A31-D289-423C-9AF6-56BE4BDC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6453-490E-4544-AB1B-225B3B38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EF742-4569-4F29-8D2F-5AB40D06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E0702-AAA1-40A0-8204-2C4582F1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EC876-8991-49DA-825E-7FEE03C8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DC2B8-7806-4A91-93E1-0DE96B97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B9F60-C989-42A5-88C2-BA481D0D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3DC3B-930F-4D9D-A597-42625450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8CF-AAC3-4563-B18D-257A9B65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152C5-1362-464F-8716-2ACC207E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614AA-8AA8-4547-8B11-F958FC5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9ACC1-6C1F-40CE-8294-6E5D2432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63860-E76C-4F8D-B5A8-A8D0198F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2CF1F-5B47-4153-A969-00B52A2B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2CDB2-BD27-4A70-8136-D627D4A6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8D20B-53E6-4875-901A-134F5598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43F07-F97A-408A-92F3-F90E0393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3FBD8-7816-4465-8E8D-055FE7AA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41E0E-D4F4-4C93-AB33-08682E94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2B65-19AC-41B4-9C38-2D6404E50B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2DA8-BA02-4B91-A032-96529060F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2226-F025-488E-A87E-573852F8A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DCE-B4EF-4F6C-9D16-392BFBB25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21DA-44FF-4FCC-8807-1B8E9FF51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0A0F-DEA6-4C4D-8AAA-82F9CA088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E459-1521-459C-9FA0-1A5A65E1E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C002-0BDE-45A0-8DCC-E5DF6CCD4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980F-370F-47EE-9DBA-412B09CBD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0347-6C28-43FE-8D75-62FBD9836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7360-7CB8-4254-9ED3-2EEABFC22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B768-FC8D-4A25-877C-07C7330FA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0302-6BBC-486E-B3A3-95FFE392F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270E-7333-4119-AC5B-D3C37D782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D7D5-1C4B-4D94-ACA6-EC80CCBCB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5814-08EB-4709-A1A0-E3C1E223D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B129-C8DE-434B-ACC9-02D0741CB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EC77-4E3E-4046-96F1-773B62C5F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53E9-E165-4632-99D1-63D49495B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BB79-B26A-4097-B7A7-4FE3E31EA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30FE-1E29-424A-9BCB-1A312A0DF3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F305-0DBE-49F4-8DC2-4FA51E9386D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3705-0E4E-4D0A-B647-2877056A1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5F55-1F5B-4027-BFB1-91FEB90F3B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E3B1-253D-4A63-97CA-841155197B8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3D7D-1336-4B21-9EA2-62D31BDBBC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DD1F-D1D1-4A0F-89A9-38631B464E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2A08-C0D3-4580-8B43-1AE3EE675B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842B-3B83-4B58-B862-2C52A4E226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4879-051E-4F6A-83B5-FDB9A393B1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A2AC-4DC4-4DF0-9B83-0DAFECF00DC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D017-31B9-4AB4-B2C9-D103AAA6574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A51A-ACC0-410D-971E-C1B59DA1A454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7FA2-0A53-4926-9681-D935F228CE9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12DC-FA0C-4C04-9C52-DAC85C283D9A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65B3-38B3-4997-B11B-52B70E8F97FF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7316-AD80-46AF-8BB5-4C8239D91764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E9C4-2AC0-449C-82BF-60B289F5EC5C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F62D-A5A5-428D-BBE2-B7FF41805D76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4E77-7EAE-45DC-A9C4-95E2E376BED6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9ECC-9AE8-44B3-BF5A-506509974C48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1FDE-CDD4-4983-BC1F-995E4536B1F9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B653-4316-457D-9A56-ED6A5585F182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FFD1-6902-473F-8898-F077FECFF3B3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735-E997-44DC-BB14-0DCAAF214AC7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9286-6A33-4B19-8276-38862A2C9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5DCD-3908-447D-96C8-0DECF6BF9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8A7E-1F48-4748-84F8-032AD6E54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450A-8D71-4935-A5C1-5C44E3191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image" Target="../media/image40.wmf"/><Relationship Id="rId12" Type="http://schemas.openxmlformats.org/officeDocument/2006/relationships/image" Target="../media/image41.wmf"/><Relationship Id="rId13" Type="http://schemas.openxmlformats.org/officeDocument/2006/relationships/image" Target="../media/image42.wmf"/><Relationship Id="rId14" Type="http://schemas.openxmlformats.org/officeDocument/2006/relationships/image" Target="../media/image43.wmf"/><Relationship Id="rId15" Type="http://schemas.openxmlformats.org/officeDocument/2006/relationships/image" Target="../media/image44.wmf"/><Relationship Id="rId16" Type="http://schemas.openxmlformats.org/officeDocument/2006/relationships/image" Target="../media/image45.wmf"/><Relationship Id="rId17" Type="http://schemas.openxmlformats.org/officeDocument/2006/relationships/image" Target="../media/image46.wmf"/><Relationship Id="rId18" Type="http://schemas.openxmlformats.org/officeDocument/2006/relationships/image" Target="../media/image47.wmf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image" Target="../media/image58.jpeg"/><Relationship Id="rId12" Type="http://schemas.openxmlformats.org/officeDocument/2006/relationships/slideLayout" Target="../slideLayouts/slideLayout2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71.png"/><Relationship Id="rId14" Type="http://schemas.openxmlformats.org/officeDocument/2006/relationships/image" Target="../media/image72.png"/><Relationship Id="rId15" Type="http://schemas.openxmlformats.org/officeDocument/2006/relationships/image" Target="../media/image73.png"/><Relationship Id="rId16" Type="http://schemas.openxmlformats.org/officeDocument/2006/relationships/image" Target="../media/image74.png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79.png"/><Relationship Id="rId22" Type="http://schemas.openxmlformats.org/officeDocument/2006/relationships/image" Target="../media/image80.png"/><Relationship Id="rId23" Type="http://schemas.openxmlformats.org/officeDocument/2006/relationships/image" Target="../media/image81.png"/><Relationship Id="rId24" Type="http://schemas.openxmlformats.org/officeDocument/2006/relationships/image" Target="../media/image82.png"/><Relationship Id="rId25" Type="http://schemas.openxmlformats.org/officeDocument/2006/relationships/image" Target="../media/image83.png"/><Relationship Id="rId26" Type="http://schemas.openxmlformats.org/officeDocument/2006/relationships/image" Target="../media/image84.png"/><Relationship Id="rId27" Type="http://schemas.openxmlformats.org/officeDocument/2006/relationships/image" Target="../media/image85.png"/><Relationship Id="rId28" Type="http://schemas.openxmlformats.org/officeDocument/2006/relationships/image" Target="../media/image86.png"/><Relationship Id="rId29" Type="http://schemas.openxmlformats.org/officeDocument/2006/relationships/image" Target="../media/image87.png"/><Relationship Id="rId30" Type="http://schemas.openxmlformats.org/officeDocument/2006/relationships/image" Target="../media/image88.png"/><Relationship Id="rId31" Type="http://schemas.openxmlformats.org/officeDocument/2006/relationships/image" Target="../media/image89.png"/><Relationship Id="rId32" Type="http://schemas.openxmlformats.org/officeDocument/2006/relationships/image" Target="../media/image89.png"/><Relationship Id="rId33" Type="http://schemas.openxmlformats.org/officeDocument/2006/relationships/image" Target="../media/image90.png"/><Relationship Id="rId34" Type="http://schemas.openxmlformats.org/officeDocument/2006/relationships/image" Target="../media/image89.png"/><Relationship Id="rId35" Type="http://schemas.openxmlformats.org/officeDocument/2006/relationships/image" Target="../media/image89.png"/><Relationship Id="rId36" Type="http://schemas.openxmlformats.org/officeDocument/2006/relationships/image" Target="../media/image89.png"/><Relationship Id="rId37" Type="http://schemas.openxmlformats.org/officeDocument/2006/relationships/image" Target="../media/image89.png"/><Relationship Id="rId38" Type="http://schemas.openxmlformats.org/officeDocument/2006/relationships/image" Target="../media/image89.png"/><Relationship Id="rId39" Type="http://schemas.openxmlformats.org/officeDocument/2006/relationships/image" Target="../media/image89.png"/><Relationship Id="rId40" Type="http://schemas.openxmlformats.org/officeDocument/2006/relationships/image" Target="../media/image89.png"/><Relationship Id="rId41" Type="http://schemas.openxmlformats.org/officeDocument/2006/relationships/image" Target="../media/image89.png"/><Relationship Id="rId42" Type="http://schemas.openxmlformats.org/officeDocument/2006/relationships/image" Target="../media/image89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slideLayout" Target="../slideLayouts/slideLayout3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image" Target="../media/image108.png"/><Relationship Id="rId7" Type="http://schemas.openxmlformats.org/officeDocument/2006/relationships/image" Target="../media/image109.png"/><Relationship Id="rId8" Type="http://schemas.openxmlformats.org/officeDocument/2006/relationships/image" Target="../media/image110.png"/><Relationship Id="rId9" Type="http://schemas.openxmlformats.org/officeDocument/2006/relationships/image" Target="../media/image111.png"/><Relationship Id="rId10" Type="http://schemas.openxmlformats.org/officeDocument/2006/relationships/image" Target="../media/image112.png"/><Relationship Id="rId11" Type="http://schemas.openxmlformats.org/officeDocument/2006/relationships/image" Target="../media/image113.png"/><Relationship Id="rId12" Type="http://schemas.openxmlformats.org/officeDocument/2006/relationships/image" Target="../media/image114.png"/><Relationship Id="rId13" Type="http://schemas.openxmlformats.org/officeDocument/2006/relationships/image" Target="../media/image115.png"/><Relationship Id="rId14" Type="http://schemas.openxmlformats.org/officeDocument/2006/relationships/image" Target="../media/image116.png"/><Relationship Id="rId15" Type="http://schemas.openxmlformats.org/officeDocument/2006/relationships/image" Target="../media/image117.png"/><Relationship Id="rId16" Type="http://schemas.openxmlformats.org/officeDocument/2006/relationships/image" Target="../media/image118.png"/><Relationship Id="rId17" Type="http://schemas.openxmlformats.org/officeDocument/2006/relationships/image" Target="../media/image119.png"/><Relationship Id="rId18" Type="http://schemas.openxmlformats.org/officeDocument/2006/relationships/image" Target="../media/image120.png"/><Relationship Id="rId19" Type="http://schemas.openxmlformats.org/officeDocument/2006/relationships/image" Target="../media/image121.png"/><Relationship Id="rId20" Type="http://schemas.openxmlformats.org/officeDocument/2006/relationships/image" Target="../media/image121.png"/><Relationship Id="rId21" Type="http://schemas.openxmlformats.org/officeDocument/2006/relationships/image" Target="../media/image122.png"/><Relationship Id="rId22" Type="http://schemas.openxmlformats.org/officeDocument/2006/relationships/image" Target="../media/image123.png"/><Relationship Id="rId23" Type="http://schemas.openxmlformats.org/officeDocument/2006/relationships/image" Target="../media/image123.png"/><Relationship Id="rId24" Type="http://schemas.openxmlformats.org/officeDocument/2006/relationships/image" Target="../media/image124.png"/><Relationship Id="rId25" Type="http://schemas.openxmlformats.org/officeDocument/2006/relationships/image" Target="../media/image125.png"/><Relationship Id="rId26" Type="http://schemas.openxmlformats.org/officeDocument/2006/relationships/image" Target="../media/image126.png"/><Relationship Id="rId27" Type="http://schemas.openxmlformats.org/officeDocument/2006/relationships/image" Target="../media/image127.png"/><Relationship Id="rId28" Type="http://schemas.openxmlformats.org/officeDocument/2006/relationships/image" Target="../media/image128.png"/><Relationship Id="rId29" Type="http://schemas.openxmlformats.org/officeDocument/2006/relationships/image" Target="../media/image129.png"/><Relationship Id="rId30" Type="http://schemas.openxmlformats.org/officeDocument/2006/relationships/image" Target="../media/image130.png"/><Relationship Id="rId31" Type="http://schemas.openxmlformats.org/officeDocument/2006/relationships/slideLayout" Target="../slideLayouts/slideLayout529.xml"/><Relationship Id="rId3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image" Target="../media/image131.png"/><Relationship Id="rId3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aring teaching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ing Hiragana, Katakana and Kan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ing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ing Sentence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ylie C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ndon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6872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Book Antiqua"/>
              </a:rPr>
              <a:t>Mini-whitebo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0" name="Picture 3" descr=""/>
          <p:cNvPicPr/>
          <p:nvPr/>
        </p:nvPicPr>
        <p:blipFill>
          <a:blip r:embed="rId1"/>
          <a:srcRect l="3561" t="11507" r="3964" b="9172"/>
          <a:stretch/>
        </p:blipFill>
        <p:spPr>
          <a:xfrm>
            <a:off x="3132000" y="2565360"/>
            <a:ext cx="31896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empus Sans ITC"/>
              </a:rPr>
              <a:t>Teaching 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Picture 2" descr="j0215783[1]"/>
          <p:cNvPicPr/>
          <p:nvPr/>
        </p:nvPicPr>
        <p:blipFill>
          <a:blip r:embed="rId1"/>
          <a:stretch/>
        </p:blipFill>
        <p:spPr>
          <a:xfrm>
            <a:off x="4803840" y="3059280"/>
            <a:ext cx="1942920" cy="1581120"/>
          </a:xfrm>
          <a:prstGeom prst="rect">
            <a:avLst/>
          </a:prstGeom>
          <a:ln w="0">
            <a:noFill/>
          </a:ln>
        </p:spPr>
      </p:pic>
      <p:pic>
        <p:nvPicPr>
          <p:cNvPr id="2074" name="Picture 3" descr="fd01736_[1]"/>
          <p:cNvPicPr/>
          <p:nvPr/>
        </p:nvPicPr>
        <p:blipFill>
          <a:blip r:embed="rId2"/>
          <a:stretch/>
        </p:blipFill>
        <p:spPr>
          <a:xfrm>
            <a:off x="5346720" y="26028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2075" name="Picture 4" descr="j0395504[1]"/>
          <p:cNvPicPr/>
          <p:nvPr/>
        </p:nvPicPr>
        <p:blipFill>
          <a:blip r:embed="rId3"/>
          <a:stretch/>
        </p:blipFill>
        <p:spPr>
          <a:xfrm>
            <a:off x="539640" y="1425600"/>
            <a:ext cx="1943280" cy="1528560"/>
          </a:xfrm>
          <a:prstGeom prst="rect">
            <a:avLst/>
          </a:prstGeom>
          <a:ln w="0">
            <a:noFill/>
          </a:ln>
        </p:spPr>
      </p:pic>
      <p:pic>
        <p:nvPicPr>
          <p:cNvPr id="2076" name="Picture 5" descr="j0215780[1]"/>
          <p:cNvPicPr/>
          <p:nvPr/>
        </p:nvPicPr>
        <p:blipFill>
          <a:blip r:embed="rId4"/>
          <a:stretch/>
        </p:blipFill>
        <p:spPr>
          <a:xfrm>
            <a:off x="7711920" y="333360"/>
            <a:ext cx="1059120" cy="1655640"/>
          </a:xfrm>
          <a:prstGeom prst="rect">
            <a:avLst/>
          </a:prstGeom>
          <a:ln w="0">
            <a:noFill/>
          </a:ln>
        </p:spPr>
      </p:pic>
      <p:pic>
        <p:nvPicPr>
          <p:cNvPr id="2077" name="Picture 6" descr="fd01721_[1]"/>
          <p:cNvPicPr/>
          <p:nvPr/>
        </p:nvPicPr>
        <p:blipFill>
          <a:blip r:embed="rId5"/>
          <a:stretch/>
        </p:blipFill>
        <p:spPr>
          <a:xfrm>
            <a:off x="539640" y="3314880"/>
            <a:ext cx="1656000" cy="1317600"/>
          </a:xfrm>
          <a:prstGeom prst="rect">
            <a:avLst/>
          </a:prstGeom>
          <a:ln w="0">
            <a:noFill/>
          </a:ln>
        </p:spPr>
      </p:pic>
      <p:pic>
        <p:nvPicPr>
          <p:cNvPr id="2078" name="Picture 7" descr="fd01720_[1]"/>
          <p:cNvPicPr/>
          <p:nvPr/>
        </p:nvPicPr>
        <p:blipFill>
          <a:blip r:embed="rId6"/>
          <a:stretch/>
        </p:blipFill>
        <p:spPr>
          <a:xfrm>
            <a:off x="5375160" y="4968720"/>
            <a:ext cx="1386000" cy="1584360"/>
          </a:xfrm>
          <a:prstGeom prst="rect">
            <a:avLst/>
          </a:prstGeom>
          <a:ln w="0">
            <a:noFill/>
          </a:ln>
        </p:spPr>
      </p:pic>
      <p:pic>
        <p:nvPicPr>
          <p:cNvPr id="2079" name="Picture 8" descr="fd01722_[1]"/>
          <p:cNvPicPr/>
          <p:nvPr/>
        </p:nvPicPr>
        <p:blipFill>
          <a:blip r:embed="rId7"/>
          <a:stretch/>
        </p:blipFill>
        <p:spPr>
          <a:xfrm>
            <a:off x="7070760" y="3125880"/>
            <a:ext cx="1655640" cy="1528560"/>
          </a:xfrm>
          <a:prstGeom prst="rect">
            <a:avLst/>
          </a:prstGeom>
          <a:ln w="0">
            <a:noFill/>
          </a:ln>
        </p:spPr>
      </p:pic>
      <p:pic>
        <p:nvPicPr>
          <p:cNvPr id="2080" name="Picture 9" descr="j0079091[1]"/>
          <p:cNvPicPr/>
          <p:nvPr/>
        </p:nvPicPr>
        <p:blipFill>
          <a:blip r:embed="rId8"/>
          <a:stretch/>
        </p:blipFill>
        <p:spPr>
          <a:xfrm rot="578400">
            <a:off x="3381120" y="749160"/>
            <a:ext cx="1334880" cy="1440000"/>
          </a:xfrm>
          <a:prstGeom prst="rect">
            <a:avLst/>
          </a:prstGeom>
          <a:ln w="0">
            <a:noFill/>
          </a:ln>
        </p:spPr>
      </p:pic>
      <p:pic>
        <p:nvPicPr>
          <p:cNvPr id="2081" name="Picture 10" descr="j0237878[1]"/>
          <p:cNvPicPr/>
          <p:nvPr/>
        </p:nvPicPr>
        <p:blipFill>
          <a:blip r:embed="rId9"/>
          <a:stretch/>
        </p:blipFill>
        <p:spPr>
          <a:xfrm>
            <a:off x="2627280" y="4076640"/>
            <a:ext cx="1584360" cy="1357200"/>
          </a:xfrm>
          <a:prstGeom prst="rect">
            <a:avLst/>
          </a:prstGeom>
          <a:ln w="0">
            <a:noFill/>
          </a:ln>
        </p:spPr>
      </p:pic>
      <p:pic>
        <p:nvPicPr>
          <p:cNvPr id="2082" name="Picture 11" descr="j0413310[1]"/>
          <p:cNvPicPr/>
          <p:nvPr/>
        </p:nvPicPr>
        <p:blipFill>
          <a:blip r:embed="rId10"/>
          <a:stretch/>
        </p:blipFill>
        <p:spPr>
          <a:xfrm>
            <a:off x="2771640" y="2360520"/>
            <a:ext cx="2087640" cy="1222560"/>
          </a:xfrm>
          <a:prstGeom prst="rect">
            <a:avLst/>
          </a:prstGeom>
          <a:ln w="0">
            <a:noFill/>
          </a:ln>
        </p:spPr>
      </p:pic>
      <p:pic>
        <p:nvPicPr>
          <p:cNvPr id="2083" name="Picture 12" descr="j0233355[1]"/>
          <p:cNvPicPr/>
          <p:nvPr/>
        </p:nvPicPr>
        <p:blipFill>
          <a:blip r:embed="rId11"/>
          <a:stretch/>
        </p:blipFill>
        <p:spPr>
          <a:xfrm>
            <a:off x="7308720" y="5202360"/>
            <a:ext cx="1584360" cy="1361880"/>
          </a:xfrm>
          <a:prstGeom prst="rect">
            <a:avLst/>
          </a:prstGeom>
          <a:ln w="0">
            <a:noFill/>
          </a:ln>
        </p:spPr>
      </p:pic>
      <p:pic>
        <p:nvPicPr>
          <p:cNvPr id="2084" name="Picture 13" descr="j0413296[1]"/>
          <p:cNvPicPr/>
          <p:nvPr/>
        </p:nvPicPr>
        <p:blipFill>
          <a:blip r:embed="rId12"/>
          <a:stretch/>
        </p:blipFill>
        <p:spPr>
          <a:xfrm>
            <a:off x="395280" y="5095800"/>
            <a:ext cx="2089080" cy="1482840"/>
          </a:xfrm>
          <a:prstGeom prst="rect">
            <a:avLst/>
          </a:prstGeom>
          <a:ln w="0">
            <a:noFill/>
          </a:ln>
        </p:spPr>
      </p:pic>
      <p:pic>
        <p:nvPicPr>
          <p:cNvPr id="2085" name="Picture 14" descr="j0215937[1]"/>
          <p:cNvPicPr/>
          <p:nvPr/>
        </p:nvPicPr>
        <p:blipFill>
          <a:blip r:embed="rId13"/>
          <a:stretch/>
        </p:blipFill>
        <p:spPr>
          <a:xfrm>
            <a:off x="3132000" y="5737320"/>
            <a:ext cx="1683000" cy="782640"/>
          </a:xfrm>
          <a:prstGeom prst="rect">
            <a:avLst/>
          </a:prstGeom>
          <a:ln w="0">
            <a:noFill/>
          </a:ln>
        </p:spPr>
      </p:pic>
      <p:pic>
        <p:nvPicPr>
          <p:cNvPr id="2086" name="Picture 15" descr="j0215791[1]"/>
          <p:cNvPicPr/>
          <p:nvPr/>
        </p:nvPicPr>
        <p:blipFill>
          <a:blip r:embed="rId14"/>
          <a:stretch/>
        </p:blipFill>
        <p:spPr>
          <a:xfrm>
            <a:off x="6013440" y="1916280"/>
            <a:ext cx="1655640" cy="960120"/>
          </a:xfrm>
          <a:prstGeom prst="rect">
            <a:avLst/>
          </a:prstGeom>
          <a:ln w="0">
            <a:noFill/>
          </a:ln>
        </p:spPr>
      </p:pic>
      <p:sp>
        <p:nvSpPr>
          <p:cNvPr id="2087" name="Rectangle 1"/>
          <p:cNvSpPr/>
          <p:nvPr/>
        </p:nvSpPr>
        <p:spPr>
          <a:xfrm>
            <a:off x="-100800" y="187200"/>
            <a:ext cx="39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empus Sans ITC"/>
              </a:rPr>
              <a:t>Beat the teac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8" name="Picture 2" descr="j0215783[1]"/>
          <p:cNvPicPr/>
          <p:nvPr/>
        </p:nvPicPr>
        <p:blipFill>
          <a:blip r:embed="rId1"/>
          <a:stretch/>
        </p:blipFill>
        <p:spPr>
          <a:xfrm>
            <a:off x="4803840" y="3059280"/>
            <a:ext cx="1942920" cy="1581120"/>
          </a:xfrm>
          <a:prstGeom prst="rect">
            <a:avLst/>
          </a:prstGeom>
          <a:ln w="0">
            <a:noFill/>
          </a:ln>
        </p:spPr>
      </p:pic>
      <p:pic>
        <p:nvPicPr>
          <p:cNvPr id="2089" name="Picture 3" descr="fd01736_[1]"/>
          <p:cNvPicPr/>
          <p:nvPr/>
        </p:nvPicPr>
        <p:blipFill>
          <a:blip r:embed="rId2"/>
          <a:stretch/>
        </p:blipFill>
        <p:spPr>
          <a:xfrm>
            <a:off x="5346720" y="26028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2090" name="Picture 4" descr="j0395504[1]"/>
          <p:cNvPicPr/>
          <p:nvPr/>
        </p:nvPicPr>
        <p:blipFill>
          <a:blip r:embed="rId3"/>
          <a:stretch/>
        </p:blipFill>
        <p:spPr>
          <a:xfrm>
            <a:off x="539640" y="1425600"/>
            <a:ext cx="1943280" cy="1528560"/>
          </a:xfrm>
          <a:prstGeom prst="rect">
            <a:avLst/>
          </a:prstGeom>
          <a:ln w="0">
            <a:noFill/>
          </a:ln>
        </p:spPr>
      </p:pic>
      <p:pic>
        <p:nvPicPr>
          <p:cNvPr id="2091" name="Picture 5" descr="j0215780[1]"/>
          <p:cNvPicPr/>
          <p:nvPr/>
        </p:nvPicPr>
        <p:blipFill>
          <a:blip r:embed="rId4"/>
          <a:stretch/>
        </p:blipFill>
        <p:spPr>
          <a:xfrm>
            <a:off x="7711920" y="333360"/>
            <a:ext cx="1059120" cy="1655640"/>
          </a:xfrm>
          <a:prstGeom prst="rect">
            <a:avLst/>
          </a:prstGeom>
          <a:ln w="0">
            <a:noFill/>
          </a:ln>
        </p:spPr>
      </p:pic>
      <p:pic>
        <p:nvPicPr>
          <p:cNvPr id="2092" name="Picture 6" descr="fd01721_[1]"/>
          <p:cNvPicPr/>
          <p:nvPr/>
        </p:nvPicPr>
        <p:blipFill>
          <a:blip r:embed="rId5"/>
          <a:stretch/>
        </p:blipFill>
        <p:spPr>
          <a:xfrm>
            <a:off x="539640" y="3314880"/>
            <a:ext cx="1656000" cy="131760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7" descr="fd01720_[1]"/>
          <p:cNvPicPr/>
          <p:nvPr/>
        </p:nvPicPr>
        <p:blipFill>
          <a:blip r:embed="rId6"/>
          <a:stretch/>
        </p:blipFill>
        <p:spPr>
          <a:xfrm>
            <a:off x="5375160" y="4968720"/>
            <a:ext cx="1386000" cy="1584360"/>
          </a:xfrm>
          <a:prstGeom prst="rect">
            <a:avLst/>
          </a:prstGeom>
          <a:ln w="0">
            <a:noFill/>
          </a:ln>
        </p:spPr>
      </p:pic>
      <p:pic>
        <p:nvPicPr>
          <p:cNvPr id="2094" name="Picture 8" descr="fd01722_[1]"/>
          <p:cNvPicPr/>
          <p:nvPr/>
        </p:nvPicPr>
        <p:blipFill>
          <a:blip r:embed="rId7"/>
          <a:stretch/>
        </p:blipFill>
        <p:spPr>
          <a:xfrm>
            <a:off x="7070760" y="3125880"/>
            <a:ext cx="1655640" cy="1528560"/>
          </a:xfrm>
          <a:prstGeom prst="rect">
            <a:avLst/>
          </a:prstGeom>
          <a:ln w="0">
            <a:noFill/>
          </a:ln>
        </p:spPr>
      </p:pic>
      <p:pic>
        <p:nvPicPr>
          <p:cNvPr id="2095" name="Picture 9" descr="j0079091[1]"/>
          <p:cNvPicPr/>
          <p:nvPr/>
        </p:nvPicPr>
        <p:blipFill>
          <a:blip r:embed="rId8"/>
          <a:stretch/>
        </p:blipFill>
        <p:spPr>
          <a:xfrm rot="578400">
            <a:off x="3381120" y="749160"/>
            <a:ext cx="1334880" cy="1440000"/>
          </a:xfrm>
          <a:prstGeom prst="rect">
            <a:avLst/>
          </a:prstGeom>
          <a:ln w="0">
            <a:noFill/>
          </a:ln>
        </p:spPr>
      </p:pic>
      <p:pic>
        <p:nvPicPr>
          <p:cNvPr id="2096" name="Picture 10" descr="j0237878[1]"/>
          <p:cNvPicPr/>
          <p:nvPr/>
        </p:nvPicPr>
        <p:blipFill>
          <a:blip r:embed="rId9"/>
          <a:stretch/>
        </p:blipFill>
        <p:spPr>
          <a:xfrm>
            <a:off x="2627280" y="4076640"/>
            <a:ext cx="1584360" cy="135720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11" descr="j0413310[1]"/>
          <p:cNvPicPr/>
          <p:nvPr/>
        </p:nvPicPr>
        <p:blipFill>
          <a:blip r:embed="rId10"/>
          <a:stretch/>
        </p:blipFill>
        <p:spPr>
          <a:xfrm>
            <a:off x="2771640" y="2360520"/>
            <a:ext cx="2087640" cy="122256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12" descr="j0233355[1]"/>
          <p:cNvPicPr/>
          <p:nvPr/>
        </p:nvPicPr>
        <p:blipFill>
          <a:blip r:embed="rId11"/>
          <a:stretch/>
        </p:blipFill>
        <p:spPr>
          <a:xfrm>
            <a:off x="7308720" y="5202360"/>
            <a:ext cx="1584360" cy="1361880"/>
          </a:xfrm>
          <a:prstGeom prst="rect">
            <a:avLst/>
          </a:prstGeom>
          <a:ln w="0">
            <a:noFill/>
          </a:ln>
        </p:spPr>
      </p:pic>
      <p:pic>
        <p:nvPicPr>
          <p:cNvPr id="2099" name="Picture 13" descr="j0413296[1]"/>
          <p:cNvPicPr/>
          <p:nvPr/>
        </p:nvPicPr>
        <p:blipFill>
          <a:blip r:embed="rId12"/>
          <a:stretch/>
        </p:blipFill>
        <p:spPr>
          <a:xfrm>
            <a:off x="395280" y="5095800"/>
            <a:ext cx="2089080" cy="148284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14" descr="j0215937[1]"/>
          <p:cNvPicPr/>
          <p:nvPr/>
        </p:nvPicPr>
        <p:blipFill>
          <a:blip r:embed="rId13"/>
          <a:stretch/>
        </p:blipFill>
        <p:spPr>
          <a:xfrm>
            <a:off x="3132000" y="5737320"/>
            <a:ext cx="1683000" cy="78264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15" descr="j0215791[1]"/>
          <p:cNvPicPr/>
          <p:nvPr/>
        </p:nvPicPr>
        <p:blipFill>
          <a:blip r:embed="rId14"/>
          <a:stretch/>
        </p:blipFill>
        <p:spPr>
          <a:xfrm>
            <a:off x="6013440" y="1916280"/>
            <a:ext cx="1655640" cy="960120"/>
          </a:xfrm>
          <a:prstGeom prst="rect">
            <a:avLst/>
          </a:prstGeom>
          <a:ln w="0">
            <a:noFill/>
          </a:ln>
        </p:spPr>
      </p:pic>
      <p:sp>
        <p:nvSpPr>
          <p:cNvPr id="2102" name="Rectangle 1"/>
          <p:cNvSpPr/>
          <p:nvPr/>
        </p:nvSpPr>
        <p:spPr>
          <a:xfrm>
            <a:off x="85680" y="187200"/>
            <a:ext cx="28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empus Sans ITC"/>
              </a:rPr>
              <a:t>Kim’s ga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3" name="Picture 2" descr="j0215783[1]"/>
          <p:cNvPicPr/>
          <p:nvPr/>
        </p:nvPicPr>
        <p:blipFill>
          <a:blip r:embed="rId1"/>
          <a:stretch/>
        </p:blipFill>
        <p:spPr>
          <a:xfrm>
            <a:off x="3643200" y="4857840"/>
            <a:ext cx="1943280" cy="1581120"/>
          </a:xfrm>
          <a:prstGeom prst="rect">
            <a:avLst/>
          </a:prstGeom>
          <a:ln w="0">
            <a:noFill/>
          </a:ln>
        </p:spPr>
      </p:pic>
      <p:pic>
        <p:nvPicPr>
          <p:cNvPr id="2104" name="Picture 3" descr="fd01736_[1]"/>
          <p:cNvPicPr/>
          <p:nvPr/>
        </p:nvPicPr>
        <p:blipFill>
          <a:blip r:embed="rId2"/>
          <a:stretch/>
        </p:blipFill>
        <p:spPr>
          <a:xfrm>
            <a:off x="2786040" y="28584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2105" name="Picture 4" descr="j0395504[1]"/>
          <p:cNvPicPr/>
          <p:nvPr/>
        </p:nvPicPr>
        <p:blipFill>
          <a:blip r:embed="rId3"/>
          <a:stretch/>
        </p:blipFill>
        <p:spPr>
          <a:xfrm>
            <a:off x="2643120" y="1785960"/>
            <a:ext cx="1943280" cy="1528920"/>
          </a:xfrm>
          <a:prstGeom prst="rect">
            <a:avLst/>
          </a:prstGeom>
          <a:ln w="0">
            <a:noFill/>
          </a:ln>
        </p:spPr>
      </p:pic>
      <p:pic>
        <p:nvPicPr>
          <p:cNvPr id="2106" name="Picture 5" descr="j0215780[1]"/>
          <p:cNvPicPr/>
          <p:nvPr/>
        </p:nvPicPr>
        <p:blipFill>
          <a:blip r:embed="rId4"/>
          <a:stretch/>
        </p:blipFill>
        <p:spPr>
          <a:xfrm>
            <a:off x="857160" y="2857680"/>
            <a:ext cx="1059120" cy="1655640"/>
          </a:xfrm>
          <a:prstGeom prst="rect">
            <a:avLst/>
          </a:prstGeom>
          <a:ln w="0">
            <a:noFill/>
          </a:ln>
        </p:spPr>
      </p:pic>
      <p:pic>
        <p:nvPicPr>
          <p:cNvPr id="2107" name="Picture 6" descr="fd01721_[1]"/>
          <p:cNvPicPr/>
          <p:nvPr/>
        </p:nvPicPr>
        <p:blipFill>
          <a:blip r:embed="rId5"/>
          <a:stretch/>
        </p:blipFill>
        <p:spPr>
          <a:xfrm>
            <a:off x="6643800" y="1928880"/>
            <a:ext cx="1655640" cy="1317600"/>
          </a:xfrm>
          <a:prstGeom prst="rect">
            <a:avLst/>
          </a:prstGeom>
          <a:ln w="0">
            <a:noFill/>
          </a:ln>
        </p:spPr>
      </p:pic>
      <p:pic>
        <p:nvPicPr>
          <p:cNvPr id="2108" name="Picture 7" descr="fd01720_[1]"/>
          <p:cNvPicPr/>
          <p:nvPr/>
        </p:nvPicPr>
        <p:blipFill>
          <a:blip r:embed="rId6"/>
          <a:stretch/>
        </p:blipFill>
        <p:spPr>
          <a:xfrm>
            <a:off x="7143840" y="3786120"/>
            <a:ext cx="1385640" cy="1584360"/>
          </a:xfrm>
          <a:prstGeom prst="rect">
            <a:avLst/>
          </a:prstGeom>
          <a:ln w="0">
            <a:noFill/>
          </a:ln>
        </p:spPr>
      </p:pic>
      <p:pic>
        <p:nvPicPr>
          <p:cNvPr id="2109" name="Picture 8" descr="fd01722_[1]"/>
          <p:cNvPicPr/>
          <p:nvPr/>
        </p:nvPicPr>
        <p:blipFill>
          <a:blip r:embed="rId7"/>
          <a:stretch/>
        </p:blipFill>
        <p:spPr>
          <a:xfrm>
            <a:off x="2500200" y="3500280"/>
            <a:ext cx="1656000" cy="1528920"/>
          </a:xfrm>
          <a:prstGeom prst="rect">
            <a:avLst/>
          </a:prstGeom>
          <a:ln w="0">
            <a:noFill/>
          </a:ln>
        </p:spPr>
      </p:pic>
      <p:pic>
        <p:nvPicPr>
          <p:cNvPr id="2110" name="Picture 9" descr="j0079091[1]"/>
          <p:cNvPicPr/>
          <p:nvPr/>
        </p:nvPicPr>
        <p:blipFill>
          <a:blip r:embed="rId8"/>
          <a:stretch/>
        </p:blipFill>
        <p:spPr>
          <a:xfrm>
            <a:off x="5214960" y="785880"/>
            <a:ext cx="1335240" cy="1439640"/>
          </a:xfrm>
          <a:prstGeom prst="rect">
            <a:avLst/>
          </a:prstGeom>
          <a:ln w="0">
            <a:noFill/>
          </a:ln>
        </p:spPr>
      </p:pic>
      <p:pic>
        <p:nvPicPr>
          <p:cNvPr id="2111" name="Picture 10" descr="j0237878[1]"/>
          <p:cNvPicPr/>
          <p:nvPr/>
        </p:nvPicPr>
        <p:blipFill>
          <a:blip r:embed="rId9"/>
          <a:stretch/>
        </p:blipFill>
        <p:spPr>
          <a:xfrm>
            <a:off x="7143840" y="285840"/>
            <a:ext cx="1584360" cy="1357200"/>
          </a:xfrm>
          <a:prstGeom prst="rect">
            <a:avLst/>
          </a:prstGeom>
          <a:ln w="0">
            <a:noFill/>
          </a:ln>
        </p:spPr>
      </p:pic>
      <p:pic>
        <p:nvPicPr>
          <p:cNvPr id="2112" name="Picture 11" descr="j0413310[1]"/>
          <p:cNvPicPr/>
          <p:nvPr/>
        </p:nvPicPr>
        <p:blipFill>
          <a:blip r:embed="rId10"/>
          <a:stretch/>
        </p:blipFill>
        <p:spPr>
          <a:xfrm>
            <a:off x="428760" y="785880"/>
            <a:ext cx="2087280" cy="1222200"/>
          </a:xfrm>
          <a:prstGeom prst="rect">
            <a:avLst/>
          </a:prstGeom>
          <a:ln w="0">
            <a:noFill/>
          </a:ln>
        </p:spPr>
      </p:pic>
      <p:pic>
        <p:nvPicPr>
          <p:cNvPr id="2113" name="Picture 12" descr="j0233355[1]"/>
          <p:cNvPicPr/>
          <p:nvPr/>
        </p:nvPicPr>
        <p:blipFill>
          <a:blip r:embed="rId11"/>
          <a:stretch/>
        </p:blipFill>
        <p:spPr>
          <a:xfrm>
            <a:off x="857160" y="5143680"/>
            <a:ext cx="1584360" cy="1361880"/>
          </a:xfrm>
          <a:prstGeom prst="rect">
            <a:avLst/>
          </a:prstGeom>
          <a:ln w="0">
            <a:noFill/>
          </a:ln>
        </p:spPr>
      </p:pic>
      <p:pic>
        <p:nvPicPr>
          <p:cNvPr id="2114" name="Picture 13" descr="j0413296[1]"/>
          <p:cNvPicPr/>
          <p:nvPr/>
        </p:nvPicPr>
        <p:blipFill>
          <a:blip r:embed="rId12"/>
          <a:stretch/>
        </p:blipFill>
        <p:spPr>
          <a:xfrm>
            <a:off x="4786200" y="3214800"/>
            <a:ext cx="2089440" cy="1482480"/>
          </a:xfrm>
          <a:prstGeom prst="rect">
            <a:avLst/>
          </a:prstGeom>
          <a:ln w="0">
            <a:noFill/>
          </a:ln>
        </p:spPr>
      </p:pic>
      <p:pic>
        <p:nvPicPr>
          <p:cNvPr id="2115" name="Picture 14" descr="j0215937[1]"/>
          <p:cNvPicPr/>
          <p:nvPr/>
        </p:nvPicPr>
        <p:blipFill>
          <a:blip r:embed="rId13"/>
          <a:stretch/>
        </p:blipFill>
        <p:spPr>
          <a:xfrm>
            <a:off x="6572160" y="5786280"/>
            <a:ext cx="16830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6" name="Picture 2" descr="j0215783[1]"/>
          <p:cNvPicPr/>
          <p:nvPr/>
        </p:nvPicPr>
        <p:blipFill>
          <a:blip r:embed="rId1"/>
          <a:stretch/>
        </p:blipFill>
        <p:spPr>
          <a:xfrm>
            <a:off x="3500280" y="133200"/>
            <a:ext cx="1943280" cy="1581480"/>
          </a:xfrm>
          <a:prstGeom prst="rect">
            <a:avLst/>
          </a:prstGeom>
          <a:ln w="0">
            <a:noFill/>
          </a:ln>
        </p:spPr>
      </p:pic>
      <p:pic>
        <p:nvPicPr>
          <p:cNvPr id="2117" name="Picture 3" descr="fd01736_[1]"/>
          <p:cNvPicPr/>
          <p:nvPr/>
        </p:nvPicPr>
        <p:blipFill>
          <a:blip r:embed="rId2"/>
          <a:stretch/>
        </p:blipFill>
        <p:spPr>
          <a:xfrm>
            <a:off x="2786040" y="192888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2118" name="Picture 4" descr="j0395504[1]"/>
          <p:cNvPicPr/>
          <p:nvPr/>
        </p:nvPicPr>
        <p:blipFill>
          <a:blip r:embed="rId3"/>
          <a:stretch/>
        </p:blipFill>
        <p:spPr>
          <a:xfrm>
            <a:off x="6786720" y="3071880"/>
            <a:ext cx="1942920" cy="1528560"/>
          </a:xfrm>
          <a:prstGeom prst="rect">
            <a:avLst/>
          </a:prstGeom>
          <a:ln w="0">
            <a:noFill/>
          </a:ln>
        </p:spPr>
      </p:pic>
      <p:pic>
        <p:nvPicPr>
          <p:cNvPr id="2119" name="Picture 6" descr="fd01721_[1]"/>
          <p:cNvPicPr/>
          <p:nvPr/>
        </p:nvPicPr>
        <p:blipFill>
          <a:blip r:embed="rId4"/>
          <a:stretch/>
        </p:blipFill>
        <p:spPr>
          <a:xfrm>
            <a:off x="571680" y="4929120"/>
            <a:ext cx="1655640" cy="1317600"/>
          </a:xfrm>
          <a:prstGeom prst="rect">
            <a:avLst/>
          </a:prstGeom>
          <a:ln w="0">
            <a:noFill/>
          </a:ln>
        </p:spPr>
      </p:pic>
      <p:pic>
        <p:nvPicPr>
          <p:cNvPr id="2120" name="Picture 7" descr="fd01720_[1]"/>
          <p:cNvPicPr/>
          <p:nvPr/>
        </p:nvPicPr>
        <p:blipFill>
          <a:blip r:embed="rId5"/>
          <a:stretch/>
        </p:blipFill>
        <p:spPr>
          <a:xfrm>
            <a:off x="5364000" y="4869000"/>
            <a:ext cx="1386000" cy="1584360"/>
          </a:xfrm>
          <a:prstGeom prst="rect">
            <a:avLst/>
          </a:prstGeom>
          <a:ln w="0">
            <a:noFill/>
          </a:ln>
        </p:spPr>
      </p:pic>
      <p:pic>
        <p:nvPicPr>
          <p:cNvPr id="2121" name="Picture 8" descr="fd01722_[1]"/>
          <p:cNvPicPr/>
          <p:nvPr/>
        </p:nvPicPr>
        <p:blipFill>
          <a:blip r:embed="rId6"/>
          <a:stretch/>
        </p:blipFill>
        <p:spPr>
          <a:xfrm>
            <a:off x="2571840" y="3571920"/>
            <a:ext cx="1655640" cy="1528560"/>
          </a:xfrm>
          <a:prstGeom prst="rect">
            <a:avLst/>
          </a:prstGeom>
          <a:ln w="0">
            <a:noFill/>
          </a:ln>
        </p:spPr>
      </p:pic>
      <p:pic>
        <p:nvPicPr>
          <p:cNvPr id="2122" name="Picture 9" descr="j0079091[1]"/>
          <p:cNvPicPr/>
          <p:nvPr/>
        </p:nvPicPr>
        <p:blipFill>
          <a:blip r:embed="rId7"/>
          <a:stretch/>
        </p:blipFill>
        <p:spPr>
          <a:xfrm>
            <a:off x="4857840" y="3286080"/>
            <a:ext cx="1334880" cy="144000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10" descr="j0237878[1]"/>
          <p:cNvPicPr/>
          <p:nvPr/>
        </p:nvPicPr>
        <p:blipFill>
          <a:blip r:embed="rId8"/>
          <a:stretch/>
        </p:blipFill>
        <p:spPr>
          <a:xfrm>
            <a:off x="7286760" y="5214960"/>
            <a:ext cx="1584360" cy="1357200"/>
          </a:xfrm>
          <a:prstGeom prst="rect">
            <a:avLst/>
          </a:prstGeom>
          <a:ln w="0">
            <a:noFill/>
          </a:ln>
        </p:spPr>
      </p:pic>
      <p:pic>
        <p:nvPicPr>
          <p:cNvPr id="2124" name="Picture 11" descr="j0413310[1]"/>
          <p:cNvPicPr/>
          <p:nvPr/>
        </p:nvPicPr>
        <p:blipFill>
          <a:blip r:embed="rId9"/>
          <a:stretch/>
        </p:blipFill>
        <p:spPr>
          <a:xfrm>
            <a:off x="4929120" y="1571760"/>
            <a:ext cx="2087640" cy="1222200"/>
          </a:xfrm>
          <a:prstGeom prst="rect">
            <a:avLst/>
          </a:prstGeom>
          <a:ln w="0">
            <a:noFill/>
          </a:ln>
        </p:spPr>
      </p:pic>
      <p:pic>
        <p:nvPicPr>
          <p:cNvPr id="2125" name="Picture 12" descr="j0233355[1]"/>
          <p:cNvPicPr/>
          <p:nvPr/>
        </p:nvPicPr>
        <p:blipFill>
          <a:blip r:embed="rId10"/>
          <a:stretch/>
        </p:blipFill>
        <p:spPr>
          <a:xfrm>
            <a:off x="7215120" y="357120"/>
            <a:ext cx="1584360" cy="1362240"/>
          </a:xfrm>
          <a:prstGeom prst="rect">
            <a:avLst/>
          </a:prstGeom>
          <a:ln w="0">
            <a:noFill/>
          </a:ln>
        </p:spPr>
      </p:pic>
      <p:pic>
        <p:nvPicPr>
          <p:cNvPr id="2126" name="Picture 13" descr="j0413296[1]"/>
          <p:cNvPicPr/>
          <p:nvPr/>
        </p:nvPicPr>
        <p:blipFill>
          <a:blip r:embed="rId11"/>
          <a:stretch/>
        </p:blipFill>
        <p:spPr>
          <a:xfrm>
            <a:off x="357120" y="2500200"/>
            <a:ext cx="2089080" cy="1482840"/>
          </a:xfrm>
          <a:prstGeom prst="rect">
            <a:avLst/>
          </a:prstGeom>
          <a:ln w="0">
            <a:noFill/>
          </a:ln>
        </p:spPr>
      </p:pic>
      <p:pic>
        <p:nvPicPr>
          <p:cNvPr id="2127" name="Picture 14" descr="j0215937[1]"/>
          <p:cNvPicPr/>
          <p:nvPr/>
        </p:nvPicPr>
        <p:blipFill>
          <a:blip r:embed="rId12"/>
          <a:stretch/>
        </p:blipFill>
        <p:spPr>
          <a:xfrm>
            <a:off x="3132000" y="5661000"/>
            <a:ext cx="1683000" cy="782640"/>
          </a:xfrm>
          <a:prstGeom prst="rect">
            <a:avLst/>
          </a:prstGeom>
          <a:ln w="0">
            <a:noFill/>
          </a:ln>
        </p:spPr>
      </p:pic>
      <p:pic>
        <p:nvPicPr>
          <p:cNvPr id="2128" name="Picture 15" descr="j0215791[1]"/>
          <p:cNvPicPr/>
          <p:nvPr/>
        </p:nvPicPr>
        <p:blipFill>
          <a:blip r:embed="rId13"/>
          <a:stretch/>
        </p:blipFill>
        <p:spPr>
          <a:xfrm>
            <a:off x="571680" y="785880"/>
            <a:ext cx="165564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9" name=""/>
          <p:cNvGraphicFramePr/>
          <p:nvPr/>
        </p:nvGraphicFramePr>
        <p:xfrm>
          <a:off x="544680" y="1125360"/>
          <a:ext cx="8062920" cy="5616720"/>
        </p:xfrm>
        <a:graphic>
          <a:graphicData uri="http://schemas.openxmlformats.org/drawingml/2006/table">
            <a:tbl>
              <a:tblPr/>
              <a:tblGrid>
                <a:gridCol w="2687400"/>
                <a:gridCol w="2687760"/>
                <a:gridCol w="268776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0" name="Picture 28" descr="j0215783[1]"/>
          <p:cNvPicPr/>
          <p:nvPr/>
        </p:nvPicPr>
        <p:blipFill>
          <a:blip r:embed="rId1"/>
          <a:stretch/>
        </p:blipFill>
        <p:spPr>
          <a:xfrm>
            <a:off x="905040" y="1197000"/>
            <a:ext cx="1942920" cy="1581120"/>
          </a:xfrm>
          <a:prstGeom prst="rect">
            <a:avLst/>
          </a:prstGeom>
          <a:ln w="0">
            <a:noFill/>
          </a:ln>
        </p:spPr>
      </p:pic>
      <p:pic>
        <p:nvPicPr>
          <p:cNvPr id="2131" name="Picture 29" descr="j0215780[1]"/>
          <p:cNvPicPr/>
          <p:nvPr/>
        </p:nvPicPr>
        <p:blipFill>
          <a:blip r:embed="rId2"/>
          <a:stretch/>
        </p:blipFill>
        <p:spPr>
          <a:xfrm>
            <a:off x="6808680" y="3213000"/>
            <a:ext cx="966960" cy="1513080"/>
          </a:xfrm>
          <a:prstGeom prst="rect">
            <a:avLst/>
          </a:prstGeom>
          <a:ln w="0">
            <a:noFill/>
          </a:ln>
        </p:spPr>
      </p:pic>
      <p:pic>
        <p:nvPicPr>
          <p:cNvPr id="2132" name="Picture 30" descr="fd01721_[1]"/>
          <p:cNvPicPr/>
          <p:nvPr/>
        </p:nvPicPr>
        <p:blipFill>
          <a:blip r:embed="rId3"/>
          <a:stretch/>
        </p:blipFill>
        <p:spPr>
          <a:xfrm>
            <a:off x="6377040" y="1370160"/>
            <a:ext cx="1584360" cy="1260360"/>
          </a:xfrm>
          <a:prstGeom prst="rect">
            <a:avLst/>
          </a:prstGeom>
          <a:ln w="0">
            <a:noFill/>
          </a:ln>
        </p:spPr>
      </p:pic>
      <p:pic>
        <p:nvPicPr>
          <p:cNvPr id="2133" name="Picture 31" descr="fd01722_[1]"/>
          <p:cNvPicPr/>
          <p:nvPr/>
        </p:nvPicPr>
        <p:blipFill>
          <a:blip r:embed="rId4"/>
          <a:stretch/>
        </p:blipFill>
        <p:spPr>
          <a:xfrm>
            <a:off x="3730680" y="319716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134" name="Picture 32" descr="j0079091[1]"/>
          <p:cNvPicPr/>
          <p:nvPr/>
        </p:nvPicPr>
        <p:blipFill>
          <a:blip r:embed="rId5"/>
          <a:stretch/>
        </p:blipFill>
        <p:spPr>
          <a:xfrm>
            <a:off x="905040" y="3092400"/>
            <a:ext cx="1550880" cy="1673280"/>
          </a:xfrm>
          <a:prstGeom prst="rect">
            <a:avLst/>
          </a:prstGeom>
          <a:ln w="0">
            <a:noFill/>
          </a:ln>
        </p:spPr>
      </p:pic>
      <p:pic>
        <p:nvPicPr>
          <p:cNvPr id="2135" name="Picture 33" descr="j0237878[1]"/>
          <p:cNvPicPr/>
          <p:nvPr/>
        </p:nvPicPr>
        <p:blipFill>
          <a:blip r:embed="rId6"/>
          <a:stretch/>
        </p:blipFill>
        <p:spPr>
          <a:xfrm>
            <a:off x="3730680" y="5078520"/>
            <a:ext cx="1800000" cy="1541520"/>
          </a:xfrm>
          <a:prstGeom prst="rect">
            <a:avLst/>
          </a:prstGeom>
          <a:ln w="0">
            <a:noFill/>
          </a:ln>
        </p:spPr>
      </p:pic>
      <p:pic>
        <p:nvPicPr>
          <p:cNvPr id="2136" name="Picture 34" descr="j0413310[1]"/>
          <p:cNvPicPr/>
          <p:nvPr/>
        </p:nvPicPr>
        <p:blipFill>
          <a:blip r:embed="rId7"/>
          <a:stretch/>
        </p:blipFill>
        <p:spPr>
          <a:xfrm>
            <a:off x="3424320" y="1343160"/>
            <a:ext cx="2198520" cy="1287360"/>
          </a:xfrm>
          <a:prstGeom prst="rect">
            <a:avLst/>
          </a:prstGeom>
          <a:ln w="0">
            <a:noFill/>
          </a:ln>
        </p:spPr>
      </p:pic>
      <p:pic>
        <p:nvPicPr>
          <p:cNvPr id="2137" name="Picture 35" descr="j0233355[1]"/>
          <p:cNvPicPr/>
          <p:nvPr/>
        </p:nvPicPr>
        <p:blipFill>
          <a:blip r:embed="rId8"/>
          <a:stretch/>
        </p:blipFill>
        <p:spPr>
          <a:xfrm>
            <a:off x="779400" y="5078520"/>
            <a:ext cx="1800360" cy="1547640"/>
          </a:xfrm>
          <a:prstGeom prst="rect">
            <a:avLst/>
          </a:prstGeom>
          <a:ln w="0">
            <a:noFill/>
          </a:ln>
        </p:spPr>
      </p:pic>
      <p:pic>
        <p:nvPicPr>
          <p:cNvPr id="2138" name="Picture 36" descr="j0413296[1]"/>
          <p:cNvPicPr/>
          <p:nvPr/>
        </p:nvPicPr>
        <p:blipFill>
          <a:blip r:embed="rId9"/>
          <a:stretch/>
        </p:blipFill>
        <p:spPr>
          <a:xfrm>
            <a:off x="6300720" y="5032440"/>
            <a:ext cx="2303640" cy="1633320"/>
          </a:xfrm>
          <a:prstGeom prst="rect">
            <a:avLst/>
          </a:prstGeom>
          <a:ln w="0">
            <a:noFill/>
          </a:ln>
        </p:spPr>
      </p:pic>
      <p:sp>
        <p:nvSpPr>
          <p:cNvPr id="2139" name="Rectangle 11"/>
          <p:cNvSpPr/>
          <p:nvPr/>
        </p:nvSpPr>
        <p:spPr>
          <a:xfrm>
            <a:off x="33840" y="187200"/>
            <a:ext cx="44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empus Sans ITC"/>
              </a:rPr>
              <a:t>Noughts &amp; Cro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08000" y="213840"/>
            <a:ext cx="34560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empus Sans ITC"/>
              </a:rPr>
              <a:t>Beat the imag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1" name="Picture 2" descr="http://www.liberarte.jp/castellano/img/vestido/camiseta.gif"/>
          <p:cNvPicPr/>
          <p:nvPr/>
        </p:nvPicPr>
        <p:blipFill>
          <a:blip r:embed="rId1"/>
          <a:stretch/>
        </p:blipFill>
        <p:spPr>
          <a:xfrm>
            <a:off x="7000920" y="-2000160"/>
            <a:ext cx="1785960" cy="1795320"/>
          </a:xfrm>
          <a:prstGeom prst="rect">
            <a:avLst/>
          </a:prstGeom>
          <a:ln w="0">
            <a:noFill/>
          </a:ln>
        </p:spPr>
      </p:pic>
      <p:pic>
        <p:nvPicPr>
          <p:cNvPr id="2142" name="Picture 4" descr="http://www.liberarte.jp/castellano/img/vestido/camisa.gif"/>
          <p:cNvPicPr/>
          <p:nvPr/>
        </p:nvPicPr>
        <p:blipFill>
          <a:blip r:embed="rId2"/>
          <a:stretch/>
        </p:blipFill>
        <p:spPr>
          <a:xfrm>
            <a:off x="9358200" y="3857760"/>
            <a:ext cx="1785960" cy="1950840"/>
          </a:xfrm>
          <a:prstGeom prst="rect">
            <a:avLst/>
          </a:prstGeom>
          <a:ln w="0">
            <a:noFill/>
          </a:ln>
        </p:spPr>
      </p:pic>
      <p:pic>
        <p:nvPicPr>
          <p:cNvPr id="2143" name="Picture 6" descr="http://www.liberarte.jp/castellano/img/vestido/cazadoradpl.gif"/>
          <p:cNvPicPr/>
          <p:nvPr/>
        </p:nvPicPr>
        <p:blipFill>
          <a:blip r:embed="rId3"/>
          <a:stretch/>
        </p:blipFill>
        <p:spPr>
          <a:xfrm>
            <a:off x="714240" y="7072200"/>
            <a:ext cx="1947960" cy="1857600"/>
          </a:xfrm>
          <a:prstGeom prst="rect">
            <a:avLst/>
          </a:prstGeom>
          <a:ln w="0">
            <a:noFill/>
          </a:ln>
        </p:spPr>
      </p:pic>
      <p:pic>
        <p:nvPicPr>
          <p:cNvPr id="2144" name="Picture 8" descr="http://www.liberarte.jp/castellano/img/vestido/jerseydcv.gif"/>
          <p:cNvPicPr/>
          <p:nvPr/>
        </p:nvPicPr>
        <p:blipFill>
          <a:blip r:embed="rId4"/>
          <a:stretch/>
        </p:blipFill>
        <p:spPr>
          <a:xfrm>
            <a:off x="-2357280" y="214200"/>
            <a:ext cx="2071440" cy="1857600"/>
          </a:xfrm>
          <a:prstGeom prst="rect">
            <a:avLst/>
          </a:prstGeom>
          <a:ln w="0">
            <a:noFill/>
          </a:ln>
        </p:spPr>
      </p:pic>
      <p:pic>
        <p:nvPicPr>
          <p:cNvPr id="2145" name="Picture 10" descr="http://www.liberarte.jp/castellano/img/vestido/impermeable.gif"/>
          <p:cNvPicPr/>
          <p:nvPr/>
        </p:nvPicPr>
        <p:blipFill>
          <a:blip r:embed="rId5"/>
          <a:stretch/>
        </p:blipFill>
        <p:spPr>
          <a:xfrm>
            <a:off x="6000840" y="7072200"/>
            <a:ext cx="1643040" cy="214308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12" descr="http://www.liberarte.jp/castellano/img/vestido/vestidounap.gif"/>
          <p:cNvPicPr/>
          <p:nvPr/>
        </p:nvPicPr>
        <p:blipFill>
          <a:blip r:embed="rId6"/>
          <a:stretch/>
        </p:blipFill>
        <p:spPr>
          <a:xfrm rot="477600">
            <a:off x="9504360" y="593640"/>
            <a:ext cx="1500120" cy="2203560"/>
          </a:xfrm>
          <a:prstGeom prst="rect">
            <a:avLst/>
          </a:prstGeom>
          <a:ln w="0">
            <a:noFill/>
          </a:ln>
        </p:spPr>
      </p:pic>
      <p:pic>
        <p:nvPicPr>
          <p:cNvPr id="2147" name="Picture 14" descr="http://www.liberarte.jp/castellano/img/vestido/traje.gif"/>
          <p:cNvPicPr/>
          <p:nvPr/>
        </p:nvPicPr>
        <p:blipFill>
          <a:blip r:embed="rId7"/>
          <a:stretch/>
        </p:blipFill>
        <p:spPr>
          <a:xfrm>
            <a:off x="-2071800" y="2286000"/>
            <a:ext cx="1643040" cy="2516040"/>
          </a:xfrm>
          <a:prstGeom prst="rect">
            <a:avLst/>
          </a:prstGeom>
          <a:ln w="0">
            <a:noFill/>
          </a:ln>
        </p:spPr>
      </p:pic>
      <p:pic>
        <p:nvPicPr>
          <p:cNvPr id="2148" name="Picture 16" descr="http://www.liberarte.jp/castellano/img/vestido/falda.gif"/>
          <p:cNvPicPr/>
          <p:nvPr/>
        </p:nvPicPr>
        <p:blipFill>
          <a:blip r:embed="rId8"/>
          <a:stretch/>
        </p:blipFill>
        <p:spPr>
          <a:xfrm>
            <a:off x="3786120" y="-2143080"/>
            <a:ext cx="1682640" cy="1785960"/>
          </a:xfrm>
          <a:prstGeom prst="rect">
            <a:avLst/>
          </a:prstGeom>
          <a:ln w="0">
            <a:noFill/>
          </a:ln>
        </p:spPr>
      </p:pic>
      <p:pic>
        <p:nvPicPr>
          <p:cNvPr id="2149" name="Picture 18" descr="http://www.liberarte.jp/castellano/img/vestido/vaqueros.gif"/>
          <p:cNvPicPr/>
          <p:nvPr/>
        </p:nvPicPr>
        <p:blipFill>
          <a:blip r:embed="rId9"/>
          <a:stretch/>
        </p:blipFill>
        <p:spPr>
          <a:xfrm rot="1434600">
            <a:off x="-2227320" y="5216040"/>
            <a:ext cx="1785960" cy="1724040"/>
          </a:xfrm>
          <a:prstGeom prst="rect">
            <a:avLst/>
          </a:prstGeom>
          <a:ln w="0">
            <a:noFill/>
          </a:ln>
        </p:spPr>
      </p:pic>
      <p:pic>
        <p:nvPicPr>
          <p:cNvPr id="2150" name="Picture 20" descr="http://www.liberarte.jp/castellano/img/vestido/pantalon.gif"/>
          <p:cNvPicPr/>
          <p:nvPr/>
        </p:nvPicPr>
        <p:blipFill>
          <a:blip r:embed="rId10"/>
          <a:stretch/>
        </p:blipFill>
        <p:spPr>
          <a:xfrm rot="20013000">
            <a:off x="797040" y="-2315880"/>
            <a:ext cx="12859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9259E-006 L 1.32309 0.00209 E">
                                      <p:cBhvr>
                                        <p:cTn id="268" dur="3000" fill="hold"/>
                                        <p:tgtEl>
                                          <p:spTgt spid="2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L -0.00191 -1.35949 E">
                                      <p:cBhvr>
                                        <p:cTn id="272" dur="3000" fill="hold"/>
                                        <p:tgtEl>
                                          <p:spTgt spid="2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1.29809 0.28078 E">
                                      <p:cBhvr>
                                        <p:cTn id="276" dur="3000" fill="hold"/>
                                        <p:tgtEl>
                                          <p:spTgt spid="2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1.27066 0.27314 E">
                                      <p:cBhvr>
                                        <p:cTn id="280" dur="3000" fill="hold"/>
                                        <p:tgtEl>
                                          <p:spTgt spid="2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00173 1.33311 E">
                                      <p:cBhvr>
                                        <p:cTn id="284" dur="3000" fill="hold"/>
                                        <p:tgtEl>
                                          <p:spTgt spid="2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AutoShape 5"/>
          <p:cNvSpPr/>
          <p:nvPr/>
        </p:nvSpPr>
        <p:spPr>
          <a:xfrm>
            <a:off x="1403280" y="119844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7"/>
          <p:cNvSpPr/>
          <p:nvPr/>
        </p:nvSpPr>
        <p:spPr>
          <a:xfrm>
            <a:off x="3809880" y="119844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AutoShape 9"/>
          <p:cNvSpPr/>
          <p:nvPr/>
        </p:nvSpPr>
        <p:spPr>
          <a:xfrm>
            <a:off x="6330960" y="112536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AutoShape 12"/>
          <p:cNvSpPr/>
          <p:nvPr/>
        </p:nvSpPr>
        <p:spPr>
          <a:xfrm>
            <a:off x="2629080" y="191916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AutoShape 13"/>
          <p:cNvSpPr/>
          <p:nvPr/>
        </p:nvSpPr>
        <p:spPr>
          <a:xfrm>
            <a:off x="5106960" y="184644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AutoShape 16"/>
          <p:cNvSpPr/>
          <p:nvPr/>
        </p:nvSpPr>
        <p:spPr>
          <a:xfrm>
            <a:off x="3852720" y="2567160"/>
            <a:ext cx="1554480" cy="1295280"/>
          </a:xfrm>
          <a:prstGeom prst="hexagon">
            <a:avLst>
              <a:gd name="adj" fmla="val 3000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AutoShape 17"/>
          <p:cNvSpPr/>
          <p:nvPr/>
        </p:nvSpPr>
        <p:spPr>
          <a:xfrm>
            <a:off x="6330960" y="249408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AutoShape 20"/>
          <p:cNvSpPr/>
          <p:nvPr/>
        </p:nvSpPr>
        <p:spPr>
          <a:xfrm>
            <a:off x="1403280" y="256716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AutoShape 21"/>
          <p:cNvSpPr/>
          <p:nvPr/>
        </p:nvSpPr>
        <p:spPr>
          <a:xfrm>
            <a:off x="2585880" y="3286080"/>
            <a:ext cx="1554480" cy="1295280"/>
          </a:xfrm>
          <a:prstGeom prst="hexagon">
            <a:avLst>
              <a:gd name="adj" fmla="val 3000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AutoShape 22"/>
          <p:cNvSpPr/>
          <p:nvPr/>
        </p:nvSpPr>
        <p:spPr>
          <a:xfrm>
            <a:off x="5106960" y="321480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AutoShape 24"/>
          <p:cNvSpPr/>
          <p:nvPr/>
        </p:nvSpPr>
        <p:spPr>
          <a:xfrm>
            <a:off x="1362240" y="393372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AutoShape 25"/>
          <p:cNvSpPr/>
          <p:nvPr/>
        </p:nvSpPr>
        <p:spPr>
          <a:xfrm>
            <a:off x="3882960" y="393372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AutoShape 26"/>
          <p:cNvSpPr/>
          <p:nvPr/>
        </p:nvSpPr>
        <p:spPr>
          <a:xfrm>
            <a:off x="6330960" y="393372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AutoShape 27"/>
          <p:cNvSpPr/>
          <p:nvPr/>
        </p:nvSpPr>
        <p:spPr>
          <a:xfrm>
            <a:off x="2585880" y="4654440"/>
            <a:ext cx="1554480" cy="1295640"/>
          </a:xfrm>
          <a:prstGeom prst="hexagon">
            <a:avLst>
              <a:gd name="adj" fmla="val 2999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AutoShape 29"/>
          <p:cNvSpPr/>
          <p:nvPr/>
        </p:nvSpPr>
        <p:spPr>
          <a:xfrm>
            <a:off x="1362240" y="530388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AutoShape 30"/>
          <p:cNvSpPr/>
          <p:nvPr/>
        </p:nvSpPr>
        <p:spPr>
          <a:xfrm>
            <a:off x="5106960" y="465444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AutoShape 32"/>
          <p:cNvSpPr/>
          <p:nvPr/>
        </p:nvSpPr>
        <p:spPr>
          <a:xfrm>
            <a:off x="6330960" y="530208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AutoShape 33"/>
          <p:cNvSpPr/>
          <p:nvPr/>
        </p:nvSpPr>
        <p:spPr>
          <a:xfrm>
            <a:off x="3852720" y="5303880"/>
            <a:ext cx="1554480" cy="1295280"/>
          </a:xfrm>
          <a:prstGeom prst="hexagon">
            <a:avLst>
              <a:gd name="adj" fmla="val 3000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9" name="Picture 42" descr="j0420528[1]"/>
          <p:cNvPicPr/>
          <p:nvPr/>
        </p:nvPicPr>
        <p:blipFill>
          <a:blip r:embed="rId1"/>
          <a:stretch/>
        </p:blipFill>
        <p:spPr>
          <a:xfrm>
            <a:off x="4140360" y="5518080"/>
            <a:ext cx="934920" cy="84924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43" descr="j0428855[1]"/>
          <p:cNvPicPr/>
          <p:nvPr/>
        </p:nvPicPr>
        <p:blipFill>
          <a:blip r:embed="rId2"/>
          <a:stretch/>
        </p:blipFill>
        <p:spPr>
          <a:xfrm>
            <a:off x="4211640" y="1270080"/>
            <a:ext cx="662040" cy="107928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44" descr="j0429331[1]"/>
          <p:cNvPicPr/>
          <p:nvPr/>
        </p:nvPicPr>
        <p:blipFill>
          <a:blip r:embed="rId3"/>
          <a:stretch/>
        </p:blipFill>
        <p:spPr>
          <a:xfrm>
            <a:off x="6588000" y="5446800"/>
            <a:ext cx="1008360" cy="965160"/>
          </a:xfrm>
          <a:prstGeom prst="rect">
            <a:avLst/>
          </a:prstGeom>
          <a:ln w="0">
            <a:noFill/>
          </a:ln>
        </p:spPr>
      </p:pic>
      <p:pic>
        <p:nvPicPr>
          <p:cNvPr id="2172" name="Picture 45" descr="j0428845[1]"/>
          <p:cNvPicPr/>
          <p:nvPr/>
        </p:nvPicPr>
        <p:blipFill>
          <a:blip r:embed="rId4"/>
          <a:stretch/>
        </p:blipFill>
        <p:spPr>
          <a:xfrm>
            <a:off x="4211640" y="4078440"/>
            <a:ext cx="1081080" cy="876240"/>
          </a:xfrm>
          <a:prstGeom prst="rect">
            <a:avLst/>
          </a:prstGeom>
          <a:ln w="0">
            <a:noFill/>
          </a:ln>
        </p:spPr>
      </p:pic>
      <p:pic>
        <p:nvPicPr>
          <p:cNvPr id="2173" name="Picture 46" descr="j0405946[1]"/>
          <p:cNvPicPr/>
          <p:nvPr/>
        </p:nvPicPr>
        <p:blipFill>
          <a:blip r:embed="rId5"/>
          <a:stretch/>
        </p:blipFill>
        <p:spPr>
          <a:xfrm>
            <a:off x="2916360" y="3430440"/>
            <a:ext cx="890640" cy="936720"/>
          </a:xfrm>
          <a:prstGeom prst="rect">
            <a:avLst/>
          </a:prstGeom>
          <a:ln w="0">
            <a:noFill/>
          </a:ln>
        </p:spPr>
      </p:pic>
      <p:pic>
        <p:nvPicPr>
          <p:cNvPr id="2174" name="Picture 47" descr="j0417652[1]"/>
          <p:cNvPicPr/>
          <p:nvPr/>
        </p:nvPicPr>
        <p:blipFill>
          <a:blip r:embed="rId6"/>
          <a:stretch/>
        </p:blipFill>
        <p:spPr>
          <a:xfrm>
            <a:off x="1620720" y="4078440"/>
            <a:ext cx="971640" cy="1008000"/>
          </a:xfrm>
          <a:prstGeom prst="rect">
            <a:avLst/>
          </a:prstGeom>
          <a:ln w="0">
            <a:noFill/>
          </a:ln>
        </p:spPr>
      </p:pic>
      <p:pic>
        <p:nvPicPr>
          <p:cNvPr id="2175" name="Picture 48" descr="j0416378[1]"/>
          <p:cNvPicPr/>
          <p:nvPr/>
        </p:nvPicPr>
        <p:blipFill>
          <a:blip r:embed="rId7"/>
          <a:stretch/>
        </p:blipFill>
        <p:spPr>
          <a:xfrm>
            <a:off x="6804000" y="2567160"/>
            <a:ext cx="669960" cy="1152360"/>
          </a:xfrm>
          <a:prstGeom prst="rect">
            <a:avLst/>
          </a:prstGeom>
          <a:ln w="0">
            <a:noFill/>
          </a:ln>
        </p:spPr>
      </p:pic>
      <p:pic>
        <p:nvPicPr>
          <p:cNvPr id="2176" name="Picture 49" descr="j0089094[1]"/>
          <p:cNvPicPr/>
          <p:nvPr/>
        </p:nvPicPr>
        <p:blipFill>
          <a:blip r:embed="rId8"/>
          <a:stretch/>
        </p:blipFill>
        <p:spPr>
          <a:xfrm>
            <a:off x="5437080" y="3357720"/>
            <a:ext cx="871560" cy="934920"/>
          </a:xfrm>
          <a:prstGeom prst="rect">
            <a:avLst/>
          </a:prstGeom>
          <a:ln w="0">
            <a:noFill/>
          </a:ln>
        </p:spPr>
      </p:pic>
      <p:pic>
        <p:nvPicPr>
          <p:cNvPr id="2177" name="Picture 50" descr="j0397981[1]"/>
          <p:cNvPicPr/>
          <p:nvPr/>
        </p:nvPicPr>
        <p:blipFill>
          <a:blip r:embed="rId9"/>
          <a:stretch/>
        </p:blipFill>
        <p:spPr>
          <a:xfrm>
            <a:off x="4140360" y="27115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51" descr="j0417634[1]"/>
          <p:cNvPicPr/>
          <p:nvPr/>
        </p:nvPicPr>
        <p:blipFill>
          <a:blip r:embed="rId10"/>
          <a:stretch/>
        </p:blipFill>
        <p:spPr>
          <a:xfrm>
            <a:off x="2916360" y="2062080"/>
            <a:ext cx="925560" cy="1030320"/>
          </a:xfrm>
          <a:prstGeom prst="rect">
            <a:avLst/>
          </a:prstGeom>
          <a:ln w="0">
            <a:noFill/>
          </a:ln>
        </p:spPr>
      </p:pic>
      <p:pic>
        <p:nvPicPr>
          <p:cNvPr id="2179" name="Picture 52" descr="j0357307[1]"/>
          <p:cNvPicPr/>
          <p:nvPr/>
        </p:nvPicPr>
        <p:blipFill>
          <a:blip r:embed="rId11"/>
          <a:stretch/>
        </p:blipFill>
        <p:spPr>
          <a:xfrm>
            <a:off x="5437080" y="4799160"/>
            <a:ext cx="897120" cy="896760"/>
          </a:xfrm>
          <a:prstGeom prst="rect">
            <a:avLst/>
          </a:prstGeom>
          <a:ln w="0">
            <a:noFill/>
          </a:ln>
        </p:spPr>
      </p:pic>
      <p:pic>
        <p:nvPicPr>
          <p:cNvPr id="2180" name="Picture 53" descr="j0198999[1]"/>
          <p:cNvPicPr/>
          <p:nvPr/>
        </p:nvPicPr>
        <p:blipFill>
          <a:blip r:embed="rId12"/>
          <a:stretch/>
        </p:blipFill>
        <p:spPr>
          <a:xfrm>
            <a:off x="5437080" y="2062080"/>
            <a:ext cx="939960" cy="836640"/>
          </a:xfrm>
          <a:prstGeom prst="rect">
            <a:avLst/>
          </a:prstGeom>
          <a:ln w="0">
            <a:noFill/>
          </a:ln>
        </p:spPr>
      </p:pic>
      <p:pic>
        <p:nvPicPr>
          <p:cNvPr id="2181" name="Picture 54" descr="j0429533[1]"/>
          <p:cNvPicPr/>
          <p:nvPr/>
        </p:nvPicPr>
        <p:blipFill>
          <a:blip r:embed="rId13"/>
          <a:stretch/>
        </p:blipFill>
        <p:spPr>
          <a:xfrm>
            <a:off x="2844720" y="4726080"/>
            <a:ext cx="1009800" cy="1079280"/>
          </a:xfrm>
          <a:prstGeom prst="rect">
            <a:avLst/>
          </a:prstGeom>
          <a:ln w="0">
            <a:noFill/>
          </a:ln>
        </p:spPr>
      </p:pic>
      <p:pic>
        <p:nvPicPr>
          <p:cNvPr id="2182" name="Picture 55" descr="j0344929[1]"/>
          <p:cNvPicPr/>
          <p:nvPr/>
        </p:nvPicPr>
        <p:blipFill>
          <a:blip r:embed="rId14"/>
          <a:stretch/>
        </p:blipFill>
        <p:spPr>
          <a:xfrm>
            <a:off x="6588000" y="4078440"/>
            <a:ext cx="962280" cy="1008000"/>
          </a:xfrm>
          <a:prstGeom prst="rect">
            <a:avLst/>
          </a:prstGeom>
          <a:ln w="0">
            <a:noFill/>
          </a:ln>
        </p:spPr>
      </p:pic>
      <p:pic>
        <p:nvPicPr>
          <p:cNvPr id="2183" name="Picture 56" descr="j0252453[1]"/>
          <p:cNvPicPr/>
          <p:nvPr/>
        </p:nvPicPr>
        <p:blipFill>
          <a:blip r:embed="rId15"/>
          <a:stretch/>
        </p:blipFill>
        <p:spPr>
          <a:xfrm>
            <a:off x="1620720" y="2709720"/>
            <a:ext cx="1008360" cy="806760"/>
          </a:xfrm>
          <a:prstGeom prst="rect">
            <a:avLst/>
          </a:prstGeom>
          <a:ln w="0">
            <a:noFill/>
          </a:ln>
        </p:spPr>
      </p:pic>
      <p:pic>
        <p:nvPicPr>
          <p:cNvPr id="2184" name="Picture 57" descr="j0233446[1]"/>
          <p:cNvPicPr/>
          <p:nvPr/>
        </p:nvPicPr>
        <p:blipFill>
          <a:blip r:embed="rId16"/>
          <a:stretch/>
        </p:blipFill>
        <p:spPr>
          <a:xfrm>
            <a:off x="1763640" y="5375160"/>
            <a:ext cx="728640" cy="1158840"/>
          </a:xfrm>
          <a:prstGeom prst="rect">
            <a:avLst/>
          </a:prstGeom>
          <a:ln w="0">
            <a:noFill/>
          </a:ln>
        </p:spPr>
      </p:pic>
      <p:pic>
        <p:nvPicPr>
          <p:cNvPr id="2185" name="Picture 58" descr="j0429491[1]"/>
          <p:cNvPicPr/>
          <p:nvPr/>
        </p:nvPicPr>
        <p:blipFill>
          <a:blip r:embed="rId17"/>
          <a:stretch/>
        </p:blipFill>
        <p:spPr>
          <a:xfrm>
            <a:off x="1763640" y="1270080"/>
            <a:ext cx="857160" cy="1008000"/>
          </a:xfrm>
          <a:prstGeom prst="rect">
            <a:avLst/>
          </a:prstGeom>
          <a:ln w="0">
            <a:noFill/>
          </a:ln>
        </p:spPr>
      </p:pic>
      <p:pic>
        <p:nvPicPr>
          <p:cNvPr id="2186" name="Picture 59" descr="j0420918[2]"/>
          <p:cNvPicPr/>
          <p:nvPr/>
        </p:nvPicPr>
        <p:blipFill>
          <a:blip r:embed="rId18"/>
          <a:stretch/>
        </p:blipFill>
        <p:spPr>
          <a:xfrm>
            <a:off x="6588000" y="1270080"/>
            <a:ext cx="1079640" cy="969840"/>
          </a:xfrm>
          <a:prstGeom prst="rect">
            <a:avLst/>
          </a:prstGeom>
          <a:ln w="0">
            <a:noFill/>
          </a:ln>
        </p:spPr>
      </p:pic>
      <p:sp>
        <p:nvSpPr>
          <p:cNvPr id="2187" name="Title 11"/>
          <p:cNvSpPr/>
          <p:nvPr/>
        </p:nvSpPr>
        <p:spPr>
          <a:xfrm>
            <a:off x="250920" y="214200"/>
            <a:ext cx="2849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empus Sans ITC"/>
              </a:rPr>
              <a:t>Blockbus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restart="whenNotActive" nodeType="interactiveSeq" fill="hold">
                <p:stCondLst>
                  <p:cond evt="onClick">
                    <p:tgtEl>
                      <p:spTgt spid="2151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2151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1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evt="onClick">
                          <p:tgtEl>
                            <p:spTgt spid="2151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6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152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2152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2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2" dur="2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evt="onClick">
                          <p:tgtEl>
                            <p:spTgt spid="2152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153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2153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3" dur="20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evt="onClick">
                          <p:tgtEl>
                            <p:spTgt spid="2153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158"/>
                    </p:tgtEl>
                  </p:cond>
                </p:stCondLst>
                <p:childTnLst>
                  <p:par>
                    <p:cTn id="320" nodeType="clickEffect" fill="hold">
                      <p:stCondLst>
                        <p:cond evt="onClick">
                          <p:tgtEl>
                            <p:spTgt spid="2158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evt="onClick">
                          <p:tgtEl>
                            <p:spTgt spid="2158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2154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2154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5" dur="20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evt="onClick">
                          <p:tgtEl>
                            <p:spTgt spid="2154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20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40" dur="20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156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2156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evt="onClick">
                          <p:tgtEl>
                            <p:spTgt spid="2156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51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155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2155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7" dur="2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evt="onClick">
                          <p:tgtEl>
                            <p:spTgt spid="2155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2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62" dur="2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157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2157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8" dur="2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evt="onClick">
                          <p:tgtEl>
                            <p:spTgt spid="2157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161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2161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evt="onClick">
                          <p:tgtEl>
                            <p:spTgt spid="2161"/>
                          </p:tgtEl>
                        </p:cond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2159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2159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0" dur="2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evt="onClick">
                          <p:tgtEl>
                            <p:spTgt spid="2159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2162"/>
                    </p:tgtEl>
                  </p:cond>
                </p:stCondLst>
                <p:childTnLst>
                  <p:par>
                    <p:cTn id="397" nodeType="clickEffect" fill="hold">
                      <p:stCondLst>
                        <p:cond evt="onClick">
                          <p:tgtEl>
                            <p:spTgt spid="2162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evt="onClick">
                          <p:tgtEl>
                            <p:spTgt spid="2162"/>
                          </p:tgtEl>
                        </p:cond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160"/>
                    </p:tgtEl>
                  </p:cond>
                </p:stCondLst>
                <p:childTnLst>
                  <p:par>
                    <p:cTn id="408" nodeType="clickEffect" fill="hold">
                      <p:stCondLst>
                        <p:cond evt="onClick">
                          <p:tgtEl>
                            <p:spTgt spid="2160"/>
                          </p:tgtEl>
                        </p:cond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evt="onClick">
                          <p:tgtEl>
                            <p:spTgt spid="2160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2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17" dur="2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2163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2163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evt="onClick">
                          <p:tgtEl>
                            <p:spTgt spid="2163"/>
                          </p:tgtEl>
                        </p:cond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2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28" dur="2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164"/>
                    </p:tgtEl>
                  </p:cond>
                </p:stCondLst>
                <p:childTnLst>
                  <p:par>
                    <p:cTn id="430" nodeType="clickEffect" fill="hold">
                      <p:stCondLst>
                        <p:cond evt="onClick">
                          <p:tgtEl>
                            <p:spTgt spid="2164"/>
                          </p:tgtEl>
                        </p:cond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2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4" dur="2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evt="onClick">
                          <p:tgtEl>
                            <p:spTgt spid="2164"/>
                          </p:tgtEl>
                        </p:cond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2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39" dur="2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66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66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20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5" dur="20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evt="onClick">
                          <p:tgtEl>
                            <p:spTgt spid="2166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20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50" dur="20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167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167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6" dur="2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evt="onClick">
                          <p:tgtEl>
                            <p:spTgt spid="2167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165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165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evt="onClick">
                          <p:tgtEl>
                            <p:spTgt spid="2165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72" dur="20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2168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168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2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evt="onClick">
                          <p:tgtEl>
                            <p:spTgt spid="2168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empus Sans ITC"/>
              </a:rPr>
              <a:t>Odd One O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3348000" y="3068640"/>
            <a:ext cx="2448000" cy="2952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Gothic"/>
              </a:rPr>
              <a:t>みか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Gothic"/>
              </a:rPr>
              <a:t>けー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Gothic"/>
              </a:rPr>
              <a:t>りん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4"/>
          <p:cNvSpPr/>
          <p:nvPr/>
        </p:nvSpPr>
        <p:spPr>
          <a:xfrm>
            <a:off x="395280" y="1557360"/>
            <a:ext cx="2448000" cy="295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Gothic"/>
              </a:rPr>
              <a:t>な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Gothic"/>
              </a:rPr>
              <a:t>み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Gothic"/>
              </a:rPr>
              <a:t>おち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Rectangle 5"/>
          <p:cNvSpPr/>
          <p:nvPr/>
        </p:nvSpPr>
        <p:spPr>
          <a:xfrm>
            <a:off x="6300720" y="2060640"/>
            <a:ext cx="2448000" cy="295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Gothic"/>
              </a:rPr>
              <a:t>りん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Gothic"/>
              </a:rPr>
              <a:t>いち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Gothic"/>
              </a:rPr>
              <a:t>ぶど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539640" y="2130120"/>
            <a:ext cx="7918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Book Antiqua"/>
              </a:rPr>
              <a:t>Teaching </a:t>
            </a:r>
            <a:br>
              <a:rPr sz="4400"/>
            </a:br>
            <a:r>
              <a:rPr b="0" lang="en-GB" sz="4400" spc="-1" strike="noStrike" u="sng">
                <a:solidFill>
                  <a:srgbClr val="000000"/>
                </a:solidFill>
                <a:uFillTx/>
                <a:latin typeface="Book Antiqua"/>
              </a:rPr>
              <a:t>Hiragana, Katakana &amp; Kan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empus Sans ITC"/>
                <a:ea typeface="MS PGothic"/>
              </a:rPr>
              <a:t>Missing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一）　み　か　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二）　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＿＿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　ど　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三）　い　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＿＿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　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四）　あ　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＿＿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　す　く　</a:t>
            </a:r>
            <a:r>
              <a:rPr b="0" lang="ja-JP" sz="32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＿＿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　－　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empus Sans ITC"/>
                <a:ea typeface="MS PGothic"/>
              </a:rPr>
              <a:t>Unjumble the word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一）　んごり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二）　きけ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三）　かみ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四）　これょとー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TextBox 4"/>
          <p:cNvSpPr/>
          <p:nvPr/>
        </p:nvSpPr>
        <p:spPr>
          <a:xfrm>
            <a:off x="179280" y="379440"/>
            <a:ext cx="585792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一）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HGPKyokashotai"/>
              </a:rPr>
              <a:t>Wednesday</a:t>
            </a:r>
            <a:r>
              <a:rPr b="1" lang="en-US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二）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HGPKyokashotai"/>
              </a:rPr>
              <a:t>Foreign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三）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HGPKyokashotai"/>
              </a:rPr>
              <a:t>Difficu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四）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HGPKyokashotai"/>
              </a:rPr>
              <a:t>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五）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HGPKyokashotai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六）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HGPKyokashotai"/>
              </a:rPr>
              <a:t>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七</a:t>
            </a:r>
            <a:r>
              <a:rPr b="1" lang="en-US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)</a:t>
            </a:r>
            <a:r>
              <a:rPr b="1" lang="ja-JP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HGPKyokashotai"/>
              </a:rPr>
              <a:t>Japane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八）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HGPKyokashotai"/>
              </a:rPr>
              <a:t>Tues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九）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HGPKyokashotai"/>
              </a:rPr>
              <a:t>Spani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十）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HGPKyokashotai"/>
              </a:rPr>
              <a:t>Engli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TextBox 3"/>
          <p:cNvSpPr/>
          <p:nvPr/>
        </p:nvSpPr>
        <p:spPr>
          <a:xfrm>
            <a:off x="3990960" y="500040"/>
            <a:ext cx="3460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すいようび・水曜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TextBox 5"/>
          <p:cNvSpPr/>
          <p:nvPr/>
        </p:nvSpPr>
        <p:spPr>
          <a:xfrm>
            <a:off x="3990960" y="1122480"/>
            <a:ext cx="1949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がいこく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TextBox 6"/>
          <p:cNvSpPr/>
          <p:nvPr/>
        </p:nvSpPr>
        <p:spPr>
          <a:xfrm>
            <a:off x="3959280" y="1770120"/>
            <a:ext cx="2413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むずかし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TextBox 7"/>
          <p:cNvSpPr/>
          <p:nvPr/>
        </p:nvSpPr>
        <p:spPr>
          <a:xfrm>
            <a:off x="3975120" y="2428920"/>
            <a:ext cx="2162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かがく・り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TextBox 8"/>
          <p:cNvSpPr/>
          <p:nvPr/>
        </p:nvSpPr>
        <p:spPr>
          <a:xfrm>
            <a:off x="3959280" y="3073320"/>
            <a:ext cx="1762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たのし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Box 9"/>
          <p:cNvSpPr/>
          <p:nvPr/>
        </p:nvSpPr>
        <p:spPr>
          <a:xfrm>
            <a:off x="4000680" y="3716280"/>
            <a:ext cx="1720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たいい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10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a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TextBox 11"/>
          <p:cNvSpPr/>
          <p:nvPr/>
        </p:nvSpPr>
        <p:spPr>
          <a:xfrm>
            <a:off x="4002120" y="4403880"/>
            <a:ext cx="1719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にほん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TextBox 12"/>
          <p:cNvSpPr/>
          <p:nvPr/>
        </p:nvSpPr>
        <p:spPr>
          <a:xfrm>
            <a:off x="3975120" y="5059440"/>
            <a:ext cx="3117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かようび・火曜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TextBox 13"/>
          <p:cNvSpPr/>
          <p:nvPr/>
        </p:nvSpPr>
        <p:spPr>
          <a:xfrm>
            <a:off x="3959280" y="5689440"/>
            <a:ext cx="2413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すぺいん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TextBox 14"/>
          <p:cNvSpPr/>
          <p:nvPr/>
        </p:nvSpPr>
        <p:spPr>
          <a:xfrm>
            <a:off x="3992400" y="6273720"/>
            <a:ext cx="15415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HGPKyokashotai"/>
                <a:ea typeface="HGPKyokashotai"/>
              </a:rPr>
              <a:t>えい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8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Book Antiqua"/>
              </a:rPr>
              <a:t>Teaching Sente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Book Antiqua"/>
              </a:rPr>
              <a:t>Guess the rest of the senten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ひまな時に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  <a:ea typeface="MS PGothic"/>
              </a:rPr>
              <a:t>映画を見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こうえんで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  <a:ea typeface="MS PGothic"/>
              </a:rPr>
              <a:t>さんぽを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ともだちと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  <a:ea typeface="MS PGothic"/>
              </a:rPr>
              <a:t>うみに行き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900" fill="hold"/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900" fill="hold"/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900" fill="hold"/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900" fill="hold"/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900" fill="hold"/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Freeform 1"/>
          <p:cNvSpPr/>
          <p:nvPr/>
        </p:nvSpPr>
        <p:spPr>
          <a:xfrm>
            <a:off x="182520" y="2114640"/>
            <a:ext cx="2824200" cy="424332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4243320"/>
              <a:gd name="textAreaBottom" fmla="*/ 4243680 h 4243320"/>
            </a:gdLst>
            <a:ahLst/>
            <a:rect l="textAreaLeft" t="textAreaTop" r="textAreaRight" b="textAreaBottom"/>
            <a:pathLst>
              <a:path w="3136901" h="5092701">
                <a:moveTo>
                  <a:pt x="0" y="0"/>
                </a:moveTo>
                <a:lnTo>
                  <a:pt x="3136900" y="0"/>
                </a:lnTo>
                <a:lnTo>
                  <a:pt x="3136900" y="5092700"/>
                </a:lnTo>
                <a:lnTo>
                  <a:pt x="0" y="5092700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12600">
            <a:solidFill>
              <a:srgbClr val="ffc0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2" name="Group 4"/>
          <p:cNvGrpSpPr/>
          <p:nvPr/>
        </p:nvGrpSpPr>
        <p:grpSpPr>
          <a:xfrm>
            <a:off x="119160" y="154080"/>
            <a:ext cx="3673440" cy="1989000"/>
            <a:chOff x="119160" y="154080"/>
            <a:chExt cx="3673440" cy="1989000"/>
          </a:xfrm>
        </p:grpSpPr>
        <p:sp>
          <p:nvSpPr>
            <p:cNvPr id="2213" name="Freeform 2"/>
            <p:cNvSpPr/>
            <p:nvPr/>
          </p:nvSpPr>
          <p:spPr>
            <a:xfrm>
              <a:off x="119160" y="154080"/>
              <a:ext cx="3673440" cy="1989000"/>
            </a:xfrm>
            <a:custGeom>
              <a:avLst/>
              <a:gdLst>
                <a:gd name="textAreaLeft" fmla="*/ 0 w 3673440"/>
                <a:gd name="textAreaRight" fmla="*/ 3673800 w 3673440"/>
                <a:gd name="textAreaTop" fmla="*/ 0 h 1989000"/>
                <a:gd name="textAreaBottom" fmla="*/ 1989360 h 1989000"/>
              </a:gdLst>
              <a:ahLst/>
              <a:rect l="textAreaLeft" t="textAreaTop" r="textAreaRight" b="textAreaBottom"/>
              <a:pathLst>
                <a:path w="4081274" h="1953389">
                  <a:moveTo>
                    <a:pt x="4319" y="778764"/>
                  </a:moveTo>
                  <a:lnTo>
                    <a:pt x="0" y="742824"/>
                  </a:lnTo>
                  <a:lnTo>
                    <a:pt x="2667" y="684785"/>
                  </a:lnTo>
                  <a:lnTo>
                    <a:pt x="16003" y="636525"/>
                  </a:lnTo>
                  <a:lnTo>
                    <a:pt x="28448" y="607569"/>
                  </a:lnTo>
                  <a:lnTo>
                    <a:pt x="48896" y="568453"/>
                  </a:lnTo>
                  <a:lnTo>
                    <a:pt x="86487" y="518287"/>
                  </a:lnTo>
                  <a:lnTo>
                    <a:pt x="124714" y="477394"/>
                  </a:lnTo>
                  <a:lnTo>
                    <a:pt x="181230" y="427355"/>
                  </a:lnTo>
                  <a:lnTo>
                    <a:pt x="248794" y="379984"/>
                  </a:lnTo>
                  <a:lnTo>
                    <a:pt x="320040" y="336169"/>
                  </a:lnTo>
                  <a:lnTo>
                    <a:pt x="415798" y="287147"/>
                  </a:lnTo>
                  <a:lnTo>
                    <a:pt x="504953" y="248921"/>
                  </a:lnTo>
                  <a:lnTo>
                    <a:pt x="629793" y="202439"/>
                  </a:lnTo>
                  <a:lnTo>
                    <a:pt x="755523" y="162561"/>
                  </a:lnTo>
                  <a:lnTo>
                    <a:pt x="875920" y="130175"/>
                  </a:lnTo>
                  <a:lnTo>
                    <a:pt x="1058037" y="88773"/>
                  </a:lnTo>
                  <a:lnTo>
                    <a:pt x="1256920" y="54991"/>
                  </a:lnTo>
                  <a:lnTo>
                    <a:pt x="1407668" y="35434"/>
                  </a:lnTo>
                  <a:lnTo>
                    <a:pt x="1524508" y="22861"/>
                  </a:lnTo>
                  <a:lnTo>
                    <a:pt x="1671702" y="11176"/>
                  </a:lnTo>
                  <a:lnTo>
                    <a:pt x="1854455" y="2032"/>
                  </a:lnTo>
                  <a:lnTo>
                    <a:pt x="1957198" y="0"/>
                  </a:lnTo>
                  <a:lnTo>
                    <a:pt x="2139061" y="0"/>
                  </a:lnTo>
                  <a:lnTo>
                    <a:pt x="2263014" y="3938"/>
                  </a:lnTo>
                  <a:lnTo>
                    <a:pt x="2430908" y="12828"/>
                  </a:lnTo>
                  <a:lnTo>
                    <a:pt x="2581530" y="25273"/>
                  </a:lnTo>
                  <a:lnTo>
                    <a:pt x="2767965" y="46737"/>
                  </a:lnTo>
                  <a:lnTo>
                    <a:pt x="2910840" y="69343"/>
                  </a:lnTo>
                  <a:lnTo>
                    <a:pt x="3018664" y="88773"/>
                  </a:lnTo>
                  <a:lnTo>
                    <a:pt x="3150870" y="117094"/>
                  </a:lnTo>
                  <a:lnTo>
                    <a:pt x="3276600" y="148718"/>
                  </a:lnTo>
                  <a:lnTo>
                    <a:pt x="3358515" y="172848"/>
                  </a:lnTo>
                  <a:lnTo>
                    <a:pt x="3465576" y="206503"/>
                  </a:lnTo>
                  <a:lnTo>
                    <a:pt x="3577082" y="249301"/>
                  </a:lnTo>
                  <a:lnTo>
                    <a:pt x="3650235" y="280290"/>
                  </a:lnTo>
                  <a:lnTo>
                    <a:pt x="3715513" y="312929"/>
                  </a:lnTo>
                  <a:lnTo>
                    <a:pt x="3769614" y="342011"/>
                  </a:lnTo>
                  <a:lnTo>
                    <a:pt x="3832225" y="379604"/>
                  </a:lnTo>
                  <a:lnTo>
                    <a:pt x="3868039" y="404496"/>
                  </a:lnTo>
                  <a:lnTo>
                    <a:pt x="3917824" y="442722"/>
                  </a:lnTo>
                  <a:lnTo>
                    <a:pt x="3950208" y="471551"/>
                  </a:lnTo>
                  <a:lnTo>
                    <a:pt x="3987419" y="510667"/>
                  </a:lnTo>
                  <a:lnTo>
                    <a:pt x="4013581" y="541909"/>
                  </a:lnTo>
                  <a:lnTo>
                    <a:pt x="4036569" y="577723"/>
                  </a:lnTo>
                  <a:lnTo>
                    <a:pt x="4056126" y="613791"/>
                  </a:lnTo>
                  <a:lnTo>
                    <a:pt x="4066921" y="639827"/>
                  </a:lnTo>
                  <a:lnTo>
                    <a:pt x="4076700" y="679197"/>
                  </a:lnTo>
                  <a:lnTo>
                    <a:pt x="4080256" y="703708"/>
                  </a:lnTo>
                  <a:lnTo>
                    <a:pt x="4081273" y="752603"/>
                  </a:lnTo>
                  <a:lnTo>
                    <a:pt x="4077717" y="780035"/>
                  </a:lnTo>
                  <a:lnTo>
                    <a:pt x="4066921" y="819278"/>
                  </a:lnTo>
                  <a:lnTo>
                    <a:pt x="4051681" y="856489"/>
                  </a:lnTo>
                  <a:lnTo>
                    <a:pt x="4018662" y="911225"/>
                  </a:lnTo>
                  <a:lnTo>
                    <a:pt x="3974212" y="965328"/>
                  </a:lnTo>
                  <a:lnTo>
                    <a:pt x="3916935" y="1018922"/>
                  </a:lnTo>
                  <a:lnTo>
                    <a:pt x="3835019" y="1079628"/>
                  </a:lnTo>
                  <a:lnTo>
                    <a:pt x="3768852" y="1119760"/>
                  </a:lnTo>
                  <a:lnTo>
                    <a:pt x="3690367" y="1160653"/>
                  </a:lnTo>
                  <a:lnTo>
                    <a:pt x="3594863" y="1203706"/>
                  </a:lnTo>
                  <a:lnTo>
                    <a:pt x="3487039" y="1245997"/>
                  </a:lnTo>
                  <a:lnTo>
                    <a:pt x="3392551" y="1277747"/>
                  </a:lnTo>
                  <a:lnTo>
                    <a:pt x="3296031" y="1306322"/>
                  </a:lnTo>
                  <a:lnTo>
                    <a:pt x="3185414" y="1335660"/>
                  </a:lnTo>
                  <a:lnTo>
                    <a:pt x="3100705" y="1355217"/>
                  </a:lnTo>
                  <a:lnTo>
                    <a:pt x="3007233" y="1374014"/>
                  </a:lnTo>
                  <a:lnTo>
                    <a:pt x="2892171" y="1395350"/>
                  </a:lnTo>
                  <a:lnTo>
                    <a:pt x="2800096" y="1408811"/>
                  </a:lnTo>
                  <a:lnTo>
                    <a:pt x="2680717" y="1423670"/>
                  </a:lnTo>
                  <a:lnTo>
                    <a:pt x="2585974" y="1432688"/>
                  </a:lnTo>
                  <a:lnTo>
                    <a:pt x="2639568" y="1428750"/>
                  </a:lnTo>
                  <a:lnTo>
                    <a:pt x="2716277" y="1425575"/>
                  </a:lnTo>
                  <a:lnTo>
                    <a:pt x="2797430" y="1424560"/>
                  </a:lnTo>
                  <a:lnTo>
                    <a:pt x="2866136" y="1425575"/>
                  </a:lnTo>
                  <a:lnTo>
                    <a:pt x="2944877" y="1428750"/>
                  </a:lnTo>
                  <a:lnTo>
                    <a:pt x="3059558" y="1439038"/>
                  </a:lnTo>
                  <a:lnTo>
                    <a:pt x="3150870" y="1450595"/>
                  </a:lnTo>
                  <a:lnTo>
                    <a:pt x="3273044" y="1475486"/>
                  </a:lnTo>
                  <a:lnTo>
                    <a:pt x="3339846" y="1497585"/>
                  </a:lnTo>
                  <a:lnTo>
                    <a:pt x="3385313" y="1522857"/>
                  </a:lnTo>
                  <a:lnTo>
                    <a:pt x="3397886" y="1535557"/>
                  </a:lnTo>
                  <a:lnTo>
                    <a:pt x="3402965" y="1544320"/>
                  </a:lnTo>
                  <a:lnTo>
                    <a:pt x="3405887" y="1557401"/>
                  </a:lnTo>
                  <a:lnTo>
                    <a:pt x="3395092" y="1580642"/>
                  </a:lnTo>
                  <a:lnTo>
                    <a:pt x="3363850" y="1604138"/>
                  </a:lnTo>
                  <a:lnTo>
                    <a:pt x="3339846" y="1614932"/>
                  </a:lnTo>
                  <a:lnTo>
                    <a:pt x="3277998" y="1635633"/>
                  </a:lnTo>
                  <a:lnTo>
                    <a:pt x="3190875" y="1655192"/>
                  </a:lnTo>
                  <a:lnTo>
                    <a:pt x="3097149" y="1669670"/>
                  </a:lnTo>
                  <a:lnTo>
                    <a:pt x="3007233" y="1679067"/>
                  </a:lnTo>
                  <a:lnTo>
                    <a:pt x="2937637" y="1682242"/>
                  </a:lnTo>
                  <a:lnTo>
                    <a:pt x="2793874" y="1684529"/>
                  </a:lnTo>
                  <a:lnTo>
                    <a:pt x="2902586" y="1686307"/>
                  </a:lnTo>
                  <a:lnTo>
                    <a:pt x="3023108" y="1693038"/>
                  </a:lnTo>
                  <a:lnTo>
                    <a:pt x="3136393" y="1710691"/>
                  </a:lnTo>
                  <a:lnTo>
                    <a:pt x="3193543" y="1728217"/>
                  </a:lnTo>
                  <a:lnTo>
                    <a:pt x="3203449" y="1734439"/>
                  </a:lnTo>
                  <a:lnTo>
                    <a:pt x="3212212" y="1743329"/>
                  </a:lnTo>
                  <a:lnTo>
                    <a:pt x="3214879" y="1747901"/>
                  </a:lnTo>
                  <a:lnTo>
                    <a:pt x="3214879" y="1753363"/>
                  </a:lnTo>
                  <a:lnTo>
                    <a:pt x="3207639" y="1765554"/>
                  </a:lnTo>
                  <a:lnTo>
                    <a:pt x="3192526" y="1774445"/>
                  </a:lnTo>
                  <a:lnTo>
                    <a:pt x="3170301" y="1783207"/>
                  </a:lnTo>
                  <a:lnTo>
                    <a:pt x="3095371" y="1800607"/>
                  </a:lnTo>
                  <a:lnTo>
                    <a:pt x="2998343" y="1812163"/>
                  </a:lnTo>
                  <a:lnTo>
                    <a:pt x="2921382" y="1818895"/>
                  </a:lnTo>
                  <a:lnTo>
                    <a:pt x="2822321" y="1821816"/>
                  </a:lnTo>
                  <a:lnTo>
                    <a:pt x="2876805" y="1824863"/>
                  </a:lnTo>
                  <a:lnTo>
                    <a:pt x="2965958" y="1836929"/>
                  </a:lnTo>
                  <a:lnTo>
                    <a:pt x="3014218" y="1850517"/>
                  </a:lnTo>
                  <a:lnTo>
                    <a:pt x="3041142" y="1862201"/>
                  </a:lnTo>
                  <a:lnTo>
                    <a:pt x="3057145" y="1876045"/>
                  </a:lnTo>
                  <a:lnTo>
                    <a:pt x="3061462" y="1886204"/>
                  </a:lnTo>
                  <a:lnTo>
                    <a:pt x="3059558" y="1896110"/>
                  </a:lnTo>
                  <a:lnTo>
                    <a:pt x="3053589" y="1905508"/>
                  </a:lnTo>
                  <a:lnTo>
                    <a:pt x="3026792" y="1923161"/>
                  </a:lnTo>
                  <a:lnTo>
                    <a:pt x="3001011" y="1931289"/>
                  </a:lnTo>
                  <a:lnTo>
                    <a:pt x="2942845" y="1945005"/>
                  </a:lnTo>
                  <a:lnTo>
                    <a:pt x="2867152" y="1953388"/>
                  </a:lnTo>
                  <a:lnTo>
                    <a:pt x="2748408" y="1953388"/>
                  </a:lnTo>
                  <a:lnTo>
                    <a:pt x="2664461" y="1944498"/>
                  </a:lnTo>
                  <a:lnTo>
                    <a:pt x="2600452" y="1929385"/>
                  </a:lnTo>
                  <a:lnTo>
                    <a:pt x="2564511" y="1912620"/>
                  </a:lnTo>
                  <a:lnTo>
                    <a:pt x="2553208" y="1901191"/>
                  </a:lnTo>
                  <a:lnTo>
                    <a:pt x="2549399" y="1893951"/>
                  </a:lnTo>
                  <a:lnTo>
                    <a:pt x="2549399" y="1884426"/>
                  </a:lnTo>
                  <a:lnTo>
                    <a:pt x="2552192" y="1878330"/>
                  </a:lnTo>
                  <a:lnTo>
                    <a:pt x="2560193" y="1869441"/>
                  </a:lnTo>
                  <a:lnTo>
                    <a:pt x="2576449" y="1859280"/>
                  </a:lnTo>
                  <a:lnTo>
                    <a:pt x="2609977" y="1845819"/>
                  </a:lnTo>
                  <a:lnTo>
                    <a:pt x="2660015" y="1834388"/>
                  </a:lnTo>
                  <a:lnTo>
                    <a:pt x="2756282" y="1824355"/>
                  </a:lnTo>
                  <a:lnTo>
                    <a:pt x="2822321" y="1821816"/>
                  </a:lnTo>
                  <a:lnTo>
                    <a:pt x="2711705" y="1815592"/>
                  </a:lnTo>
                  <a:lnTo>
                    <a:pt x="2618105" y="1807210"/>
                  </a:lnTo>
                  <a:lnTo>
                    <a:pt x="2523745" y="1791589"/>
                  </a:lnTo>
                  <a:lnTo>
                    <a:pt x="2489836" y="1781683"/>
                  </a:lnTo>
                  <a:lnTo>
                    <a:pt x="2467611" y="1772158"/>
                  </a:lnTo>
                  <a:lnTo>
                    <a:pt x="2454911" y="1762253"/>
                  </a:lnTo>
                  <a:lnTo>
                    <a:pt x="2450339" y="1753363"/>
                  </a:lnTo>
                  <a:lnTo>
                    <a:pt x="2453005" y="1741932"/>
                  </a:lnTo>
                  <a:lnTo>
                    <a:pt x="2467611" y="1732154"/>
                  </a:lnTo>
                  <a:lnTo>
                    <a:pt x="2487042" y="1722882"/>
                  </a:lnTo>
                  <a:lnTo>
                    <a:pt x="2512949" y="1715135"/>
                  </a:lnTo>
                  <a:lnTo>
                    <a:pt x="2589658" y="1699133"/>
                  </a:lnTo>
                  <a:lnTo>
                    <a:pt x="2654046" y="1692783"/>
                  </a:lnTo>
                  <a:lnTo>
                    <a:pt x="2793874" y="1684529"/>
                  </a:lnTo>
                  <a:lnTo>
                    <a:pt x="2581530" y="1682751"/>
                  </a:lnTo>
                  <a:lnTo>
                    <a:pt x="2476246" y="1673098"/>
                  </a:lnTo>
                  <a:lnTo>
                    <a:pt x="2374774" y="1660145"/>
                  </a:lnTo>
                  <a:lnTo>
                    <a:pt x="2253489" y="1634745"/>
                  </a:lnTo>
                  <a:lnTo>
                    <a:pt x="2178305" y="1608201"/>
                  </a:lnTo>
                  <a:lnTo>
                    <a:pt x="2153158" y="1593851"/>
                  </a:lnTo>
                  <a:lnTo>
                    <a:pt x="2140839" y="1583182"/>
                  </a:lnTo>
                  <a:lnTo>
                    <a:pt x="2130045" y="1569467"/>
                  </a:lnTo>
                  <a:lnTo>
                    <a:pt x="2126615" y="1556767"/>
                  </a:lnTo>
                  <a:lnTo>
                    <a:pt x="2131187" y="1541654"/>
                  </a:lnTo>
                  <a:lnTo>
                    <a:pt x="2144777" y="1525651"/>
                  </a:lnTo>
                  <a:lnTo>
                    <a:pt x="2167002" y="1510030"/>
                  </a:lnTo>
                  <a:lnTo>
                    <a:pt x="2246249" y="1479170"/>
                  </a:lnTo>
                  <a:lnTo>
                    <a:pt x="2338198" y="1460882"/>
                  </a:lnTo>
                  <a:lnTo>
                    <a:pt x="2440686" y="1447801"/>
                  </a:lnTo>
                  <a:lnTo>
                    <a:pt x="2638807" y="1427480"/>
                  </a:lnTo>
                  <a:lnTo>
                    <a:pt x="2510283" y="1440308"/>
                  </a:lnTo>
                  <a:lnTo>
                    <a:pt x="2399539" y="1449960"/>
                  </a:lnTo>
                  <a:lnTo>
                    <a:pt x="2258568" y="1457198"/>
                  </a:lnTo>
                  <a:lnTo>
                    <a:pt x="2209546" y="1458976"/>
                  </a:lnTo>
                  <a:lnTo>
                    <a:pt x="2114170" y="1460882"/>
                  </a:lnTo>
                  <a:lnTo>
                    <a:pt x="1945640" y="1460882"/>
                  </a:lnTo>
                  <a:lnTo>
                    <a:pt x="1818005" y="1457198"/>
                  </a:lnTo>
                  <a:lnTo>
                    <a:pt x="1699514" y="1451229"/>
                  </a:lnTo>
                  <a:lnTo>
                    <a:pt x="1621917" y="1446023"/>
                  </a:lnTo>
                  <a:lnTo>
                    <a:pt x="1537082" y="1438530"/>
                  </a:lnTo>
                  <a:lnTo>
                    <a:pt x="1459357" y="1431036"/>
                  </a:lnTo>
                  <a:lnTo>
                    <a:pt x="1385443" y="1422528"/>
                  </a:lnTo>
                  <a:lnTo>
                    <a:pt x="1326643" y="1415416"/>
                  </a:lnTo>
                  <a:lnTo>
                    <a:pt x="1256920" y="1405255"/>
                  </a:lnTo>
                  <a:lnTo>
                    <a:pt x="1156082" y="1389253"/>
                  </a:lnTo>
                  <a:lnTo>
                    <a:pt x="1030224" y="1365505"/>
                  </a:lnTo>
                  <a:lnTo>
                    <a:pt x="926593" y="1343661"/>
                  </a:lnTo>
                  <a:lnTo>
                    <a:pt x="813435" y="1314324"/>
                  </a:lnTo>
                  <a:lnTo>
                    <a:pt x="744093" y="1294258"/>
                  </a:lnTo>
                  <a:lnTo>
                    <a:pt x="673609" y="1272794"/>
                  </a:lnTo>
                  <a:lnTo>
                    <a:pt x="600203" y="1247649"/>
                  </a:lnTo>
                  <a:lnTo>
                    <a:pt x="522606" y="1219836"/>
                  </a:lnTo>
                  <a:lnTo>
                    <a:pt x="438023" y="1183133"/>
                  </a:lnTo>
                  <a:lnTo>
                    <a:pt x="360300" y="1145160"/>
                  </a:lnTo>
                  <a:lnTo>
                    <a:pt x="293371" y="1108330"/>
                  </a:lnTo>
                  <a:lnTo>
                    <a:pt x="208662" y="1053085"/>
                  </a:lnTo>
                  <a:lnTo>
                    <a:pt x="159639" y="1014350"/>
                  </a:lnTo>
                  <a:lnTo>
                    <a:pt x="121921" y="979678"/>
                  </a:lnTo>
                  <a:lnTo>
                    <a:pt x="92837" y="948944"/>
                  </a:lnTo>
                  <a:lnTo>
                    <a:pt x="54483" y="900939"/>
                  </a:lnTo>
                  <a:lnTo>
                    <a:pt x="26797" y="849885"/>
                  </a:lnTo>
                  <a:lnTo>
                    <a:pt x="16003" y="822706"/>
                  </a:lnTo>
                  <a:lnTo>
                    <a:pt x="4319" y="778764"/>
                  </a:lnTo>
                  <a:close/>
                </a:path>
              </a:pathLst>
            </a:custGeom>
            <a:solidFill>
              <a:srgbClr val="ffd7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TextBox 3"/>
            <p:cNvSpPr/>
            <p:nvPr/>
          </p:nvSpPr>
          <p:spPr>
            <a:xfrm>
              <a:off x="1237320" y="313200"/>
              <a:ext cx="1436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 - 16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5" name="TextBox 5"/>
          <p:cNvSpPr/>
          <p:nvPr/>
        </p:nvSpPr>
        <p:spPr>
          <a:xfrm>
            <a:off x="285840" y="642960"/>
            <a:ext cx="35211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GB" sz="23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ja-JP" sz="2300" spc="-1" strike="noStrike">
                <a:solidFill>
                  <a:srgbClr val="000000"/>
                </a:solidFill>
                <a:latin typeface="MS Gothic"/>
                <a:ea typeface="MS Gothic"/>
              </a:rPr>
              <a:t>せんせい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MS PGothic"/>
              </a:rPr>
              <a:t>'s Mind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Freeform 6"/>
          <p:cNvSpPr/>
          <p:nvPr/>
        </p:nvSpPr>
        <p:spPr>
          <a:xfrm>
            <a:off x="3132000" y="2114640"/>
            <a:ext cx="2822760" cy="424332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4243320"/>
              <a:gd name="textAreaBottom" fmla="*/ 4243680 h 4243320"/>
            </a:gdLst>
            <a:ahLst/>
            <a:rect l="textAreaLeft" t="textAreaTop" r="textAreaRight" b="textAreaBottom"/>
            <a:pathLst>
              <a:path w="3136901" h="5092701">
                <a:moveTo>
                  <a:pt x="0" y="0"/>
                </a:moveTo>
                <a:lnTo>
                  <a:pt x="3136900" y="0"/>
                </a:lnTo>
                <a:lnTo>
                  <a:pt x="3136900" y="5092700"/>
                </a:lnTo>
                <a:lnTo>
                  <a:pt x="0" y="5092700"/>
                </a:lnTo>
                <a:lnTo>
                  <a:pt x="0" y="0"/>
                </a:lnTo>
                <a:close/>
              </a:path>
            </a:pathLst>
          </a:custGeom>
          <a:solidFill>
            <a:srgbClr val="c0ffff"/>
          </a:solidFill>
          <a:ln w="12600">
            <a:solidFill>
              <a:srgbClr val="c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Freeform 7"/>
          <p:cNvSpPr/>
          <p:nvPr/>
        </p:nvSpPr>
        <p:spPr>
          <a:xfrm>
            <a:off x="6080040" y="2114640"/>
            <a:ext cx="2824200" cy="424332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4243320"/>
              <a:gd name="textAreaBottom" fmla="*/ 4243680 h 4243320"/>
            </a:gdLst>
            <a:ahLst/>
            <a:rect l="textAreaLeft" t="textAreaTop" r="textAreaRight" b="textAreaBottom"/>
            <a:pathLst>
              <a:path w="3136901" h="5092701">
                <a:moveTo>
                  <a:pt x="0" y="0"/>
                </a:moveTo>
                <a:lnTo>
                  <a:pt x="3136900" y="0"/>
                </a:lnTo>
                <a:lnTo>
                  <a:pt x="3136900" y="5092700"/>
                </a:lnTo>
                <a:lnTo>
                  <a:pt x="0" y="5092700"/>
                </a:lnTo>
                <a:lnTo>
                  <a:pt x="0" y="0"/>
                </a:lnTo>
                <a:close/>
              </a:path>
            </a:pathLst>
          </a:custGeom>
          <a:solidFill>
            <a:srgbClr val="98fb98"/>
          </a:solidFill>
          <a:ln w="12600">
            <a:solidFill>
              <a:srgbClr val="98fb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8" name="Picture 8" descr="clipboard(19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229440" y="2278080"/>
            <a:ext cx="1241280" cy="824040"/>
          </a:xfrm>
          <a:prstGeom prst="rect">
            <a:avLst/>
          </a:prstGeom>
          <a:ln w="0">
            <a:noFill/>
          </a:ln>
        </p:spPr>
      </p:pic>
      <p:pic>
        <p:nvPicPr>
          <p:cNvPr id="2219" name="Picture 9" descr="clipboard(23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354800" y="3246480"/>
            <a:ext cx="1287720" cy="855720"/>
          </a:xfrm>
          <a:prstGeom prst="rect">
            <a:avLst/>
          </a:prstGeom>
          <a:ln w="0">
            <a:noFill/>
          </a:ln>
        </p:spPr>
      </p:pic>
      <p:pic>
        <p:nvPicPr>
          <p:cNvPr id="2220" name="Picture 10" descr="clipboard(26).pn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6303960" y="4237200"/>
            <a:ext cx="1266840" cy="888840"/>
          </a:xfrm>
          <a:prstGeom prst="rect">
            <a:avLst/>
          </a:prstGeom>
          <a:ln w="0">
            <a:noFill/>
          </a:ln>
        </p:spPr>
      </p:pic>
      <p:pic>
        <p:nvPicPr>
          <p:cNvPr id="2221" name="Picture 11" descr="clipboard(24).png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7458120" y="5342040"/>
            <a:ext cx="1266840" cy="842760"/>
          </a:xfrm>
          <a:prstGeom prst="rect">
            <a:avLst/>
          </a:prstGeom>
          <a:ln w="0">
            <a:noFill/>
          </a:ln>
        </p:spPr>
      </p:pic>
      <p:pic>
        <p:nvPicPr>
          <p:cNvPr id="2222" name="Picture 12" descr="clipboard(3).png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4303800" y="4421160"/>
            <a:ext cx="1352520" cy="870120"/>
          </a:xfrm>
          <a:prstGeom prst="rect">
            <a:avLst/>
          </a:prstGeom>
          <a:ln w="0">
            <a:noFill/>
          </a:ln>
        </p:spPr>
      </p:pic>
      <p:pic>
        <p:nvPicPr>
          <p:cNvPr id="2223" name="Picture 13" descr="clipboard(10).png"/>
          <p:cNvPicPr/>
          <p:nvPr/>
        </p:nvPicPr>
        <p:blipFill>
          <a:blip r:embed="rId6">
            <a:alphaModFix amt="0"/>
          </a:blip>
          <a:stretch/>
        </p:blipFill>
        <p:spPr>
          <a:xfrm rot="21223200">
            <a:off x="3338640" y="3346200"/>
            <a:ext cx="1482480" cy="812520"/>
          </a:xfrm>
          <a:prstGeom prst="rect">
            <a:avLst/>
          </a:prstGeom>
          <a:ln w="0">
            <a:noFill/>
          </a:ln>
        </p:spPr>
      </p:pic>
      <p:pic>
        <p:nvPicPr>
          <p:cNvPr id="2224" name="Picture 14" descr="clipboard(12).png"/>
          <p:cNvPicPr/>
          <p:nvPr/>
        </p:nvPicPr>
        <p:blipFill>
          <a:blip r:embed="rId7">
            <a:alphaModFix amt="0"/>
          </a:blip>
          <a:stretch/>
        </p:blipFill>
        <p:spPr>
          <a:xfrm rot="21454200">
            <a:off x="4460760" y="2306160"/>
            <a:ext cx="1190880" cy="773280"/>
          </a:xfrm>
          <a:prstGeom prst="rect">
            <a:avLst/>
          </a:prstGeom>
          <a:ln w="0">
            <a:noFill/>
          </a:ln>
        </p:spPr>
      </p:pic>
      <p:pic>
        <p:nvPicPr>
          <p:cNvPr id="2225" name="Picture 15" descr="clipboard(13).png"/>
          <p:cNvPicPr/>
          <p:nvPr/>
        </p:nvPicPr>
        <p:blipFill>
          <a:blip r:embed="rId8">
            <a:alphaModFix amt="0"/>
          </a:blip>
          <a:stretch/>
        </p:blipFill>
        <p:spPr>
          <a:xfrm rot="912000">
            <a:off x="3456000" y="5560920"/>
            <a:ext cx="1698480" cy="476280"/>
          </a:xfrm>
          <a:prstGeom prst="rect">
            <a:avLst/>
          </a:prstGeom>
          <a:ln w="0">
            <a:noFill/>
          </a:ln>
        </p:spPr>
      </p:pic>
      <p:pic>
        <p:nvPicPr>
          <p:cNvPr id="2226" name="Picture 16" descr="SarahJessicaHatPA_450x450[1].jpg"/>
          <p:cNvPicPr/>
          <p:nvPr/>
        </p:nvPicPr>
        <p:blipFill>
          <a:blip r:embed="rId9">
            <a:alphaModFix amt="0"/>
          </a:blip>
          <a:stretch/>
        </p:blipFill>
        <p:spPr>
          <a:xfrm>
            <a:off x="274680" y="2198520"/>
            <a:ext cx="1461960" cy="1354320"/>
          </a:xfrm>
          <a:prstGeom prst="rect">
            <a:avLst/>
          </a:prstGeom>
          <a:ln w="0">
            <a:noFill/>
          </a:ln>
        </p:spPr>
      </p:pic>
      <p:pic>
        <p:nvPicPr>
          <p:cNvPr id="2227" name="Picture 17" descr="homer-simpson-3[1].jpg"/>
          <p:cNvPicPr/>
          <p:nvPr/>
        </p:nvPicPr>
        <p:blipFill>
          <a:blip r:embed="rId10">
            <a:alphaModFix amt="0"/>
          </a:blip>
          <a:stretch/>
        </p:blipFill>
        <p:spPr>
          <a:xfrm>
            <a:off x="1503360" y="3670200"/>
            <a:ext cx="1319040" cy="1271520"/>
          </a:xfrm>
          <a:prstGeom prst="rect">
            <a:avLst/>
          </a:prstGeom>
          <a:ln w="0">
            <a:noFill/>
          </a:ln>
        </p:spPr>
      </p:pic>
      <p:sp>
        <p:nvSpPr>
          <p:cNvPr id="2228" name="TextBox 18"/>
          <p:cNvSpPr/>
          <p:nvPr/>
        </p:nvSpPr>
        <p:spPr>
          <a:xfrm rot="20760000">
            <a:off x="1725120" y="2773440"/>
            <a:ext cx="160020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rah</a:t>
            </a:r>
            <a:r>
              <a:rPr b="0" lang="en-GB" sz="2000" spc="-1" strike="noStrike">
                <a:solidFill>
                  <a:srgbClr val="000000"/>
                </a:solidFill>
                <a:latin typeface="Times New Roman - 16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MS Gothic"/>
                <a:ea typeface="MS Gothic"/>
              </a:rPr>
              <a:t>さ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TextBox 19"/>
          <p:cNvSpPr/>
          <p:nvPr/>
        </p:nvSpPr>
        <p:spPr>
          <a:xfrm rot="660000">
            <a:off x="263520" y="4086000"/>
            <a:ext cx="1690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omer</a:t>
            </a:r>
            <a:r>
              <a:rPr b="0" lang="en-GB" sz="1900" spc="-1" strike="noStrike">
                <a:solidFill>
                  <a:srgbClr val="000000"/>
                </a:solidFill>
                <a:latin typeface="Times New Roman - 16"/>
              </a:rPr>
              <a:t> </a:t>
            </a:r>
            <a:r>
              <a:rPr b="0" lang="ja-JP" sz="1900" spc="-1" strike="noStrike">
                <a:solidFill>
                  <a:srgbClr val="000000"/>
                </a:solidFill>
                <a:latin typeface="MS Gothic"/>
                <a:ea typeface="MS Gothic"/>
              </a:rPr>
              <a:t>さん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0" name="Picture 20" descr="johnnydepp[1].png"/>
          <p:cNvPicPr/>
          <p:nvPr/>
        </p:nvPicPr>
        <p:blipFill>
          <a:blip r:embed="rId11">
            <a:alphaModFix amt="0"/>
          </a:blip>
          <a:stretch/>
        </p:blipFill>
        <p:spPr>
          <a:xfrm>
            <a:off x="343080" y="5045040"/>
            <a:ext cx="1169640" cy="1255680"/>
          </a:xfrm>
          <a:prstGeom prst="rect">
            <a:avLst/>
          </a:prstGeom>
          <a:ln w="0">
            <a:noFill/>
          </a:ln>
        </p:spPr>
      </p:pic>
      <p:sp>
        <p:nvSpPr>
          <p:cNvPr id="2231" name="TextBox 21"/>
          <p:cNvSpPr/>
          <p:nvPr/>
        </p:nvSpPr>
        <p:spPr>
          <a:xfrm>
            <a:off x="1496880" y="5543640"/>
            <a:ext cx="1738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Johnny</a:t>
            </a:r>
            <a:r>
              <a:rPr b="0" lang="en-GB" sz="1900" spc="-1" strike="noStrike">
                <a:solidFill>
                  <a:srgbClr val="000000"/>
                </a:solidFill>
                <a:latin typeface="Times New Roman - 16"/>
              </a:rPr>
              <a:t> </a:t>
            </a:r>
            <a:r>
              <a:rPr b="0" lang="ja-JP" sz="1900" spc="-1" strike="noStrike">
                <a:solidFill>
                  <a:srgbClr val="000000"/>
                </a:solidFill>
                <a:latin typeface="MS Gothic"/>
                <a:ea typeface="MS Gothic"/>
              </a:rPr>
              <a:t>さん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TextBox 5"/>
          <p:cNvSpPr/>
          <p:nvPr/>
        </p:nvSpPr>
        <p:spPr>
          <a:xfrm>
            <a:off x="3673440" y="1413000"/>
            <a:ext cx="511164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omer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さ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PGothic"/>
              </a:rPr>
              <a:t> は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くる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PGothic"/>
              </a:rPr>
              <a:t> で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まち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PGothic"/>
              </a:rPr>
              <a:t> に 行きます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3" name=""/>
          <p:cNvGraphicFramePr/>
          <p:nvPr/>
        </p:nvGraphicFramePr>
        <p:xfrm>
          <a:off x="179280" y="115920"/>
          <a:ext cx="8713800" cy="6627960"/>
        </p:xfrm>
        <a:graphic>
          <a:graphicData uri="http://schemas.openxmlformats.org/drawingml/2006/table">
            <a:tbl>
              <a:tblPr/>
              <a:tblGrid>
                <a:gridCol w="2016360"/>
                <a:gridCol w="957240"/>
                <a:gridCol w="957240"/>
                <a:gridCol w="955440"/>
                <a:gridCol w="957240"/>
                <a:gridCol w="957600"/>
                <a:gridCol w="955440"/>
                <a:gridCol w="957240"/>
              </a:tblGrid>
              <a:tr h="216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"/>
                        </a:rPr>
                        <a:t>Merit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"/>
                        </a:rPr>
                        <a:t>Hunt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MS Gothic"/>
                          <a:ea typeface="MS Gothic"/>
                        </a:rPr>
                        <a:t>ラングサ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MS Gothic"/>
                          <a:ea typeface="MS Gothic"/>
                        </a:rPr>
                        <a:t>マケラ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MS Gothic"/>
                          <a:ea typeface="MS Gothic"/>
                        </a:rPr>
                        <a:t>コリン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MS Gothic"/>
                          <a:ea typeface="MS Gothic"/>
                        </a:rPr>
                        <a:t>ハンフリ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MS Gothic"/>
                          <a:ea typeface="MS Gothic"/>
                        </a:rPr>
                        <a:t>シーハン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MS Gothic"/>
                          <a:ea typeface="MS Gothic"/>
                        </a:rPr>
                        <a:t>デラクワ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ff"/>
                          </a:solidFill>
                          <a:latin typeface="MS Gothic"/>
                          <a:ea typeface="MS Gothic"/>
                        </a:rPr>
                        <a:t>ハナ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43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nois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744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strict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43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good *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743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bus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44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weak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742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cool *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grpSp>
        <p:nvGrpSpPr>
          <p:cNvPr id="2234" name="Rounded Rectangle 6"/>
          <p:cNvGrpSpPr/>
          <p:nvPr/>
        </p:nvGrpSpPr>
        <p:grpSpPr>
          <a:xfrm>
            <a:off x="4157640" y="1884240"/>
            <a:ext cx="828720" cy="792360"/>
            <a:chOff x="4157640" y="1884240"/>
            <a:chExt cx="828720" cy="792360"/>
          </a:xfrm>
        </p:grpSpPr>
        <p:pic>
          <p:nvPicPr>
            <p:cNvPr id="2235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4157640" y="1884240"/>
              <a:ext cx="8287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6" name=""/>
            <p:cNvSpPr/>
            <p:nvPr/>
          </p:nvSpPr>
          <p:spPr>
            <a:xfrm>
              <a:off x="4245120" y="1949400"/>
              <a:ext cx="65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7" name="Rounded Rectangle 7"/>
          <p:cNvGrpSpPr/>
          <p:nvPr/>
        </p:nvGrpSpPr>
        <p:grpSpPr>
          <a:xfrm>
            <a:off x="2286000" y="1884240"/>
            <a:ext cx="828720" cy="792360"/>
            <a:chOff x="2286000" y="1884240"/>
            <a:chExt cx="828720" cy="792360"/>
          </a:xfrm>
        </p:grpSpPr>
        <p:pic>
          <p:nvPicPr>
            <p:cNvPr id="2238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2286000" y="1884240"/>
              <a:ext cx="8287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9" name=""/>
            <p:cNvSpPr/>
            <p:nvPr/>
          </p:nvSpPr>
          <p:spPr>
            <a:xfrm>
              <a:off x="2373480" y="1949400"/>
              <a:ext cx="6523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0" name="Rounded Rectangle 9"/>
          <p:cNvGrpSpPr/>
          <p:nvPr/>
        </p:nvGrpSpPr>
        <p:grpSpPr>
          <a:xfrm>
            <a:off x="5114880" y="1884240"/>
            <a:ext cx="878040" cy="792360"/>
            <a:chOff x="5114880" y="1884240"/>
            <a:chExt cx="878040" cy="792360"/>
          </a:xfrm>
        </p:grpSpPr>
        <p:pic>
          <p:nvPicPr>
            <p:cNvPr id="224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5114880" y="1884240"/>
              <a:ext cx="8780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2" name=""/>
            <p:cNvSpPr/>
            <p:nvPr/>
          </p:nvSpPr>
          <p:spPr>
            <a:xfrm>
              <a:off x="5202360" y="1949400"/>
              <a:ext cx="70488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3" name="Rounded Rectangle 10"/>
          <p:cNvGrpSpPr/>
          <p:nvPr/>
        </p:nvGrpSpPr>
        <p:grpSpPr>
          <a:xfrm>
            <a:off x="6046920" y="1884240"/>
            <a:ext cx="884160" cy="792360"/>
            <a:chOff x="6046920" y="1884240"/>
            <a:chExt cx="884160" cy="792360"/>
          </a:xfrm>
        </p:grpSpPr>
        <p:pic>
          <p:nvPicPr>
            <p:cNvPr id="2244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6046920" y="1884240"/>
              <a:ext cx="8841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5" name=""/>
            <p:cNvSpPr/>
            <p:nvPr/>
          </p:nvSpPr>
          <p:spPr>
            <a:xfrm>
              <a:off x="6138720" y="1949400"/>
              <a:ext cx="70488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6" name="Rounded Rectangle 11"/>
          <p:cNvGrpSpPr/>
          <p:nvPr/>
        </p:nvGrpSpPr>
        <p:grpSpPr>
          <a:xfrm>
            <a:off x="7034040" y="1884240"/>
            <a:ext cx="884520" cy="792360"/>
            <a:chOff x="7034040" y="1884240"/>
            <a:chExt cx="884520" cy="792360"/>
          </a:xfrm>
        </p:grpSpPr>
        <p:pic>
          <p:nvPicPr>
            <p:cNvPr id="2247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7034040" y="1884240"/>
              <a:ext cx="8845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8" name=""/>
            <p:cNvSpPr/>
            <p:nvPr/>
          </p:nvSpPr>
          <p:spPr>
            <a:xfrm>
              <a:off x="7126200" y="1949400"/>
              <a:ext cx="703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Rounded Rectangle 12"/>
          <p:cNvGrpSpPr/>
          <p:nvPr/>
        </p:nvGrpSpPr>
        <p:grpSpPr>
          <a:xfrm>
            <a:off x="7974000" y="1884240"/>
            <a:ext cx="878040" cy="792360"/>
            <a:chOff x="7974000" y="1884240"/>
            <a:chExt cx="878040" cy="792360"/>
          </a:xfrm>
        </p:grpSpPr>
        <p:pic>
          <p:nvPicPr>
            <p:cNvPr id="2250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7974000" y="1884240"/>
              <a:ext cx="8780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1" name=""/>
            <p:cNvSpPr/>
            <p:nvPr/>
          </p:nvSpPr>
          <p:spPr>
            <a:xfrm>
              <a:off x="8061480" y="1949400"/>
              <a:ext cx="7045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2" name="Rounded Rectangle 14"/>
          <p:cNvGrpSpPr/>
          <p:nvPr/>
        </p:nvGrpSpPr>
        <p:grpSpPr>
          <a:xfrm>
            <a:off x="2286000" y="2719440"/>
            <a:ext cx="828720" cy="792000"/>
            <a:chOff x="2286000" y="2719440"/>
            <a:chExt cx="828720" cy="792000"/>
          </a:xfrm>
        </p:grpSpPr>
        <p:pic>
          <p:nvPicPr>
            <p:cNvPr id="2253" name="Rounded Rectangle 14" descr=""/>
            <p:cNvPicPr/>
            <p:nvPr/>
          </p:nvPicPr>
          <p:blipFill>
            <a:blip r:embed="rId7"/>
            <a:stretch/>
          </p:blipFill>
          <p:spPr>
            <a:xfrm>
              <a:off x="2286000" y="2719440"/>
              <a:ext cx="8287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4" name=""/>
            <p:cNvSpPr/>
            <p:nvPr/>
          </p:nvSpPr>
          <p:spPr>
            <a:xfrm>
              <a:off x="2373480" y="2781360"/>
              <a:ext cx="6523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5" name="Rounded Rectangle 15"/>
          <p:cNvGrpSpPr/>
          <p:nvPr/>
        </p:nvGrpSpPr>
        <p:grpSpPr>
          <a:xfrm>
            <a:off x="3219480" y="2719440"/>
            <a:ext cx="834840" cy="792000"/>
            <a:chOff x="3219480" y="2719440"/>
            <a:chExt cx="834840" cy="792000"/>
          </a:xfrm>
        </p:grpSpPr>
        <p:pic>
          <p:nvPicPr>
            <p:cNvPr id="2256" name="Rounded Rectangle 15" descr=""/>
            <p:cNvPicPr/>
            <p:nvPr/>
          </p:nvPicPr>
          <p:blipFill>
            <a:blip r:embed="rId8"/>
            <a:stretch/>
          </p:blipFill>
          <p:spPr>
            <a:xfrm>
              <a:off x="3219480" y="2719440"/>
              <a:ext cx="8348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7" name=""/>
            <p:cNvSpPr/>
            <p:nvPr/>
          </p:nvSpPr>
          <p:spPr>
            <a:xfrm>
              <a:off x="3308400" y="2781360"/>
              <a:ext cx="6541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8" name="Rounded Rectangle 16"/>
          <p:cNvGrpSpPr/>
          <p:nvPr/>
        </p:nvGrpSpPr>
        <p:grpSpPr>
          <a:xfrm>
            <a:off x="5114880" y="2719440"/>
            <a:ext cx="878040" cy="792000"/>
            <a:chOff x="5114880" y="2719440"/>
            <a:chExt cx="878040" cy="792000"/>
          </a:xfrm>
        </p:grpSpPr>
        <p:pic>
          <p:nvPicPr>
            <p:cNvPr id="2259" name="Rounded Rectangle 16" descr=""/>
            <p:cNvPicPr/>
            <p:nvPr/>
          </p:nvPicPr>
          <p:blipFill>
            <a:blip r:embed="rId9"/>
            <a:stretch/>
          </p:blipFill>
          <p:spPr>
            <a:xfrm>
              <a:off x="5114880" y="2719440"/>
              <a:ext cx="878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0" name=""/>
            <p:cNvSpPr/>
            <p:nvPr/>
          </p:nvSpPr>
          <p:spPr>
            <a:xfrm>
              <a:off x="5202360" y="2781360"/>
              <a:ext cx="7048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1" name="Rounded Rectangle 18"/>
          <p:cNvGrpSpPr/>
          <p:nvPr/>
        </p:nvGrpSpPr>
        <p:grpSpPr>
          <a:xfrm>
            <a:off x="7034040" y="2719440"/>
            <a:ext cx="884520" cy="792000"/>
            <a:chOff x="7034040" y="2719440"/>
            <a:chExt cx="884520" cy="792000"/>
          </a:xfrm>
        </p:grpSpPr>
        <p:pic>
          <p:nvPicPr>
            <p:cNvPr id="2262" name="Rounded Rectangle 18" descr=""/>
            <p:cNvPicPr/>
            <p:nvPr/>
          </p:nvPicPr>
          <p:blipFill>
            <a:blip r:embed="rId10"/>
            <a:stretch/>
          </p:blipFill>
          <p:spPr>
            <a:xfrm>
              <a:off x="7034040" y="2719440"/>
              <a:ext cx="8845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3" name=""/>
            <p:cNvSpPr/>
            <p:nvPr/>
          </p:nvSpPr>
          <p:spPr>
            <a:xfrm>
              <a:off x="7126200" y="2781360"/>
              <a:ext cx="7034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4" name="Rounded Rectangle 21"/>
          <p:cNvGrpSpPr/>
          <p:nvPr/>
        </p:nvGrpSpPr>
        <p:grpSpPr>
          <a:xfrm>
            <a:off x="2286000" y="3511440"/>
            <a:ext cx="828720" cy="785880"/>
            <a:chOff x="2286000" y="3511440"/>
            <a:chExt cx="828720" cy="785880"/>
          </a:xfrm>
        </p:grpSpPr>
        <p:pic>
          <p:nvPicPr>
            <p:cNvPr id="2265" name="Rounded Rectangle 21" descr=""/>
            <p:cNvPicPr/>
            <p:nvPr/>
          </p:nvPicPr>
          <p:blipFill>
            <a:blip r:embed="rId11"/>
            <a:stretch/>
          </p:blipFill>
          <p:spPr>
            <a:xfrm>
              <a:off x="2286000" y="3511440"/>
              <a:ext cx="82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6" name=""/>
            <p:cNvSpPr/>
            <p:nvPr/>
          </p:nvSpPr>
          <p:spPr>
            <a:xfrm>
              <a:off x="2373480" y="3573360"/>
              <a:ext cx="6523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7" name="Rounded Rectangle 23"/>
          <p:cNvGrpSpPr/>
          <p:nvPr/>
        </p:nvGrpSpPr>
        <p:grpSpPr>
          <a:xfrm>
            <a:off x="5114880" y="3511440"/>
            <a:ext cx="878040" cy="785880"/>
            <a:chOff x="5114880" y="3511440"/>
            <a:chExt cx="878040" cy="785880"/>
          </a:xfrm>
        </p:grpSpPr>
        <p:pic>
          <p:nvPicPr>
            <p:cNvPr id="2268" name="Rounded Rectangle 23" descr=""/>
            <p:cNvPicPr/>
            <p:nvPr/>
          </p:nvPicPr>
          <p:blipFill>
            <a:blip r:embed="rId12"/>
            <a:stretch/>
          </p:blipFill>
          <p:spPr>
            <a:xfrm>
              <a:off x="5114880" y="3511440"/>
              <a:ext cx="8780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9" name=""/>
            <p:cNvSpPr/>
            <p:nvPr/>
          </p:nvSpPr>
          <p:spPr>
            <a:xfrm>
              <a:off x="5202360" y="3573360"/>
              <a:ext cx="70488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0" name="Rounded Rectangle 24"/>
          <p:cNvGrpSpPr/>
          <p:nvPr/>
        </p:nvGrpSpPr>
        <p:grpSpPr>
          <a:xfrm>
            <a:off x="6046920" y="3511440"/>
            <a:ext cx="884160" cy="785880"/>
            <a:chOff x="6046920" y="3511440"/>
            <a:chExt cx="884160" cy="785880"/>
          </a:xfrm>
        </p:grpSpPr>
        <p:pic>
          <p:nvPicPr>
            <p:cNvPr id="2271" name="Rounded Rectangle 24" descr=""/>
            <p:cNvPicPr/>
            <p:nvPr/>
          </p:nvPicPr>
          <p:blipFill>
            <a:blip r:embed="rId13"/>
            <a:stretch/>
          </p:blipFill>
          <p:spPr>
            <a:xfrm>
              <a:off x="6046920" y="3511440"/>
              <a:ext cx="8841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2" name=""/>
            <p:cNvSpPr/>
            <p:nvPr/>
          </p:nvSpPr>
          <p:spPr>
            <a:xfrm>
              <a:off x="6138720" y="3573360"/>
              <a:ext cx="70488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3" name="Rounded Rectangle 25"/>
          <p:cNvGrpSpPr/>
          <p:nvPr/>
        </p:nvGrpSpPr>
        <p:grpSpPr>
          <a:xfrm>
            <a:off x="7034040" y="3511440"/>
            <a:ext cx="884520" cy="785880"/>
            <a:chOff x="7034040" y="3511440"/>
            <a:chExt cx="884520" cy="785880"/>
          </a:xfrm>
        </p:grpSpPr>
        <p:pic>
          <p:nvPicPr>
            <p:cNvPr id="2274" name="Rounded Rectangle 25" descr=""/>
            <p:cNvPicPr/>
            <p:nvPr/>
          </p:nvPicPr>
          <p:blipFill>
            <a:blip r:embed="rId14"/>
            <a:stretch/>
          </p:blipFill>
          <p:spPr>
            <a:xfrm>
              <a:off x="7034040" y="3511440"/>
              <a:ext cx="8845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5" name=""/>
            <p:cNvSpPr/>
            <p:nvPr/>
          </p:nvSpPr>
          <p:spPr>
            <a:xfrm>
              <a:off x="7126200" y="3573360"/>
              <a:ext cx="703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6" name="Rounded Rectangle 26"/>
          <p:cNvGrpSpPr/>
          <p:nvPr/>
        </p:nvGrpSpPr>
        <p:grpSpPr>
          <a:xfrm>
            <a:off x="7974000" y="3511440"/>
            <a:ext cx="878040" cy="785880"/>
            <a:chOff x="7974000" y="3511440"/>
            <a:chExt cx="878040" cy="785880"/>
          </a:xfrm>
        </p:grpSpPr>
        <p:pic>
          <p:nvPicPr>
            <p:cNvPr id="2277" name="Rounded Rectangle 26" descr=""/>
            <p:cNvPicPr/>
            <p:nvPr/>
          </p:nvPicPr>
          <p:blipFill>
            <a:blip r:embed="rId15"/>
            <a:stretch/>
          </p:blipFill>
          <p:spPr>
            <a:xfrm>
              <a:off x="7974000" y="3511440"/>
              <a:ext cx="8780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8" name=""/>
            <p:cNvSpPr/>
            <p:nvPr/>
          </p:nvSpPr>
          <p:spPr>
            <a:xfrm>
              <a:off x="8061480" y="3573360"/>
              <a:ext cx="7045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9" name="Rounded Rectangle 27"/>
          <p:cNvGrpSpPr/>
          <p:nvPr/>
        </p:nvGrpSpPr>
        <p:grpSpPr>
          <a:xfrm>
            <a:off x="4157640" y="4334040"/>
            <a:ext cx="828720" cy="792000"/>
            <a:chOff x="4157640" y="4334040"/>
            <a:chExt cx="828720" cy="792000"/>
          </a:xfrm>
        </p:grpSpPr>
        <p:pic>
          <p:nvPicPr>
            <p:cNvPr id="2280" name="Rounded Rectangle 27" descr=""/>
            <p:cNvPicPr/>
            <p:nvPr/>
          </p:nvPicPr>
          <p:blipFill>
            <a:blip r:embed="rId16"/>
            <a:stretch/>
          </p:blipFill>
          <p:spPr>
            <a:xfrm>
              <a:off x="4157640" y="4334040"/>
              <a:ext cx="8287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1" name=""/>
            <p:cNvSpPr/>
            <p:nvPr/>
          </p:nvSpPr>
          <p:spPr>
            <a:xfrm>
              <a:off x="4245120" y="4398840"/>
              <a:ext cx="6537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Rounded Rectangle 28"/>
          <p:cNvGrpSpPr/>
          <p:nvPr/>
        </p:nvGrpSpPr>
        <p:grpSpPr>
          <a:xfrm>
            <a:off x="2286000" y="4334040"/>
            <a:ext cx="828720" cy="792000"/>
            <a:chOff x="2286000" y="4334040"/>
            <a:chExt cx="828720" cy="792000"/>
          </a:xfrm>
        </p:grpSpPr>
        <p:pic>
          <p:nvPicPr>
            <p:cNvPr id="2283" name="Rounded Rectangle 28" descr=""/>
            <p:cNvPicPr/>
            <p:nvPr/>
          </p:nvPicPr>
          <p:blipFill>
            <a:blip r:embed="rId17"/>
            <a:stretch/>
          </p:blipFill>
          <p:spPr>
            <a:xfrm>
              <a:off x="2286000" y="4334040"/>
              <a:ext cx="8287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4" name=""/>
            <p:cNvSpPr/>
            <p:nvPr/>
          </p:nvSpPr>
          <p:spPr>
            <a:xfrm>
              <a:off x="2373480" y="4398840"/>
              <a:ext cx="6523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5" name="Rounded Rectangle 29"/>
          <p:cNvGrpSpPr/>
          <p:nvPr/>
        </p:nvGrpSpPr>
        <p:grpSpPr>
          <a:xfrm>
            <a:off x="3219480" y="4322880"/>
            <a:ext cx="834840" cy="792000"/>
            <a:chOff x="3219480" y="4322880"/>
            <a:chExt cx="834840" cy="792000"/>
          </a:xfrm>
        </p:grpSpPr>
        <p:pic>
          <p:nvPicPr>
            <p:cNvPr id="2286" name="Rounded Rectangle 29" descr=""/>
            <p:cNvPicPr/>
            <p:nvPr/>
          </p:nvPicPr>
          <p:blipFill>
            <a:blip r:embed="rId18"/>
            <a:stretch/>
          </p:blipFill>
          <p:spPr>
            <a:xfrm>
              <a:off x="3219480" y="4322880"/>
              <a:ext cx="8348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7" name=""/>
            <p:cNvSpPr/>
            <p:nvPr/>
          </p:nvSpPr>
          <p:spPr>
            <a:xfrm>
              <a:off x="3308400" y="4387680"/>
              <a:ext cx="6541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8" name="Rounded Rectangle 32"/>
          <p:cNvGrpSpPr/>
          <p:nvPr/>
        </p:nvGrpSpPr>
        <p:grpSpPr>
          <a:xfrm>
            <a:off x="7034040" y="4322880"/>
            <a:ext cx="884520" cy="792000"/>
            <a:chOff x="7034040" y="4322880"/>
            <a:chExt cx="884520" cy="792000"/>
          </a:xfrm>
        </p:grpSpPr>
        <p:pic>
          <p:nvPicPr>
            <p:cNvPr id="2289" name="Rounded Rectangle 32" descr=""/>
            <p:cNvPicPr/>
            <p:nvPr/>
          </p:nvPicPr>
          <p:blipFill>
            <a:blip r:embed="rId19"/>
            <a:stretch/>
          </p:blipFill>
          <p:spPr>
            <a:xfrm>
              <a:off x="7034040" y="4322880"/>
              <a:ext cx="8845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0" name=""/>
            <p:cNvSpPr/>
            <p:nvPr/>
          </p:nvSpPr>
          <p:spPr>
            <a:xfrm>
              <a:off x="7126200" y="4387680"/>
              <a:ext cx="703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1" name="Rounded Rectangle 33"/>
          <p:cNvGrpSpPr/>
          <p:nvPr/>
        </p:nvGrpSpPr>
        <p:grpSpPr>
          <a:xfrm>
            <a:off x="7974000" y="4334040"/>
            <a:ext cx="878040" cy="792000"/>
            <a:chOff x="7974000" y="4334040"/>
            <a:chExt cx="878040" cy="792000"/>
          </a:xfrm>
        </p:grpSpPr>
        <p:pic>
          <p:nvPicPr>
            <p:cNvPr id="2292" name="Rounded Rectangle 33" descr=""/>
            <p:cNvPicPr/>
            <p:nvPr/>
          </p:nvPicPr>
          <p:blipFill>
            <a:blip r:embed="rId20"/>
            <a:stretch/>
          </p:blipFill>
          <p:spPr>
            <a:xfrm>
              <a:off x="7974000" y="4334040"/>
              <a:ext cx="878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3" name=""/>
            <p:cNvSpPr/>
            <p:nvPr/>
          </p:nvSpPr>
          <p:spPr>
            <a:xfrm>
              <a:off x="8061480" y="4398840"/>
              <a:ext cx="7045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4" name="Rounded Rectangle 34"/>
          <p:cNvGrpSpPr/>
          <p:nvPr/>
        </p:nvGrpSpPr>
        <p:grpSpPr>
          <a:xfrm>
            <a:off x="4157640" y="5151600"/>
            <a:ext cx="828720" cy="792000"/>
            <a:chOff x="4157640" y="5151600"/>
            <a:chExt cx="828720" cy="792000"/>
          </a:xfrm>
        </p:grpSpPr>
        <p:pic>
          <p:nvPicPr>
            <p:cNvPr id="2295" name="Rounded Rectangle 34" descr=""/>
            <p:cNvPicPr/>
            <p:nvPr/>
          </p:nvPicPr>
          <p:blipFill>
            <a:blip r:embed="rId21"/>
            <a:stretch/>
          </p:blipFill>
          <p:spPr>
            <a:xfrm>
              <a:off x="4157640" y="5151600"/>
              <a:ext cx="8287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6" name=""/>
            <p:cNvSpPr/>
            <p:nvPr/>
          </p:nvSpPr>
          <p:spPr>
            <a:xfrm>
              <a:off x="4245120" y="5218200"/>
              <a:ext cx="6537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7" name="Rounded Rectangle 36"/>
          <p:cNvGrpSpPr/>
          <p:nvPr/>
        </p:nvGrpSpPr>
        <p:grpSpPr>
          <a:xfrm>
            <a:off x="3219480" y="5162400"/>
            <a:ext cx="834840" cy="793800"/>
            <a:chOff x="3219480" y="5162400"/>
            <a:chExt cx="834840" cy="793800"/>
          </a:xfrm>
        </p:grpSpPr>
        <p:pic>
          <p:nvPicPr>
            <p:cNvPr id="2298" name="Rounded Rectangle 36" descr=""/>
            <p:cNvPicPr/>
            <p:nvPr/>
          </p:nvPicPr>
          <p:blipFill>
            <a:blip r:embed="rId22"/>
            <a:stretch/>
          </p:blipFill>
          <p:spPr>
            <a:xfrm>
              <a:off x="3219480" y="5162400"/>
              <a:ext cx="8348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9" name=""/>
            <p:cNvSpPr/>
            <p:nvPr/>
          </p:nvSpPr>
          <p:spPr>
            <a:xfrm>
              <a:off x="3308400" y="5229360"/>
              <a:ext cx="6541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0" name="Rounded Rectangle 37"/>
          <p:cNvGrpSpPr/>
          <p:nvPr/>
        </p:nvGrpSpPr>
        <p:grpSpPr>
          <a:xfrm>
            <a:off x="5114880" y="5162400"/>
            <a:ext cx="878040" cy="793800"/>
            <a:chOff x="5114880" y="5162400"/>
            <a:chExt cx="878040" cy="793800"/>
          </a:xfrm>
        </p:grpSpPr>
        <p:pic>
          <p:nvPicPr>
            <p:cNvPr id="2301" name="Rounded Rectangle 37" descr=""/>
            <p:cNvPicPr/>
            <p:nvPr/>
          </p:nvPicPr>
          <p:blipFill>
            <a:blip r:embed="rId23"/>
            <a:stretch/>
          </p:blipFill>
          <p:spPr>
            <a:xfrm>
              <a:off x="5114880" y="5162400"/>
              <a:ext cx="8780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2" name=""/>
            <p:cNvSpPr/>
            <p:nvPr/>
          </p:nvSpPr>
          <p:spPr>
            <a:xfrm>
              <a:off x="5202360" y="5229360"/>
              <a:ext cx="7048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3" name="Rounded Rectangle 38"/>
          <p:cNvGrpSpPr/>
          <p:nvPr/>
        </p:nvGrpSpPr>
        <p:grpSpPr>
          <a:xfrm>
            <a:off x="6046920" y="5151600"/>
            <a:ext cx="884160" cy="792000"/>
            <a:chOff x="6046920" y="5151600"/>
            <a:chExt cx="884160" cy="792000"/>
          </a:xfrm>
        </p:grpSpPr>
        <p:pic>
          <p:nvPicPr>
            <p:cNvPr id="2304" name="Rounded Rectangle 38" descr=""/>
            <p:cNvPicPr/>
            <p:nvPr/>
          </p:nvPicPr>
          <p:blipFill>
            <a:blip r:embed="rId24"/>
            <a:stretch/>
          </p:blipFill>
          <p:spPr>
            <a:xfrm>
              <a:off x="6046920" y="5151600"/>
              <a:ext cx="884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5" name=""/>
            <p:cNvSpPr/>
            <p:nvPr/>
          </p:nvSpPr>
          <p:spPr>
            <a:xfrm>
              <a:off x="6138720" y="5218200"/>
              <a:ext cx="7048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6" name="Rounded Rectangle 39"/>
          <p:cNvGrpSpPr/>
          <p:nvPr/>
        </p:nvGrpSpPr>
        <p:grpSpPr>
          <a:xfrm>
            <a:off x="7034040" y="5162400"/>
            <a:ext cx="884520" cy="793800"/>
            <a:chOff x="7034040" y="5162400"/>
            <a:chExt cx="884520" cy="793800"/>
          </a:xfrm>
        </p:grpSpPr>
        <p:pic>
          <p:nvPicPr>
            <p:cNvPr id="2307" name="Rounded Rectangle 39" descr=""/>
            <p:cNvPicPr/>
            <p:nvPr/>
          </p:nvPicPr>
          <p:blipFill>
            <a:blip r:embed="rId25"/>
            <a:stretch/>
          </p:blipFill>
          <p:spPr>
            <a:xfrm>
              <a:off x="7034040" y="5162400"/>
              <a:ext cx="8845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8" name=""/>
            <p:cNvSpPr/>
            <p:nvPr/>
          </p:nvSpPr>
          <p:spPr>
            <a:xfrm>
              <a:off x="7126200" y="5229360"/>
              <a:ext cx="7034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9" name="Rounded Rectangle 41"/>
          <p:cNvGrpSpPr/>
          <p:nvPr/>
        </p:nvGrpSpPr>
        <p:grpSpPr>
          <a:xfrm>
            <a:off x="4157640" y="5956200"/>
            <a:ext cx="828720" cy="792360"/>
            <a:chOff x="4157640" y="5956200"/>
            <a:chExt cx="828720" cy="792360"/>
          </a:xfrm>
        </p:grpSpPr>
        <p:pic>
          <p:nvPicPr>
            <p:cNvPr id="2310" name="Rounded Rectangle 41" descr=""/>
            <p:cNvPicPr/>
            <p:nvPr/>
          </p:nvPicPr>
          <p:blipFill>
            <a:blip r:embed="rId26"/>
            <a:stretch/>
          </p:blipFill>
          <p:spPr>
            <a:xfrm>
              <a:off x="4157640" y="5956200"/>
              <a:ext cx="8287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1" name=""/>
            <p:cNvSpPr/>
            <p:nvPr/>
          </p:nvSpPr>
          <p:spPr>
            <a:xfrm>
              <a:off x="4245120" y="6021360"/>
              <a:ext cx="6537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2" name="Rounded Rectangle 43"/>
          <p:cNvGrpSpPr/>
          <p:nvPr/>
        </p:nvGrpSpPr>
        <p:grpSpPr>
          <a:xfrm>
            <a:off x="3219480" y="5943600"/>
            <a:ext cx="834840" cy="792000"/>
            <a:chOff x="3219480" y="5943600"/>
            <a:chExt cx="834840" cy="792000"/>
          </a:xfrm>
        </p:grpSpPr>
        <p:pic>
          <p:nvPicPr>
            <p:cNvPr id="2313" name="Rounded Rectangle 43" descr=""/>
            <p:cNvPicPr/>
            <p:nvPr/>
          </p:nvPicPr>
          <p:blipFill>
            <a:blip r:embed="rId27"/>
            <a:stretch/>
          </p:blipFill>
          <p:spPr>
            <a:xfrm>
              <a:off x="3219480" y="5943600"/>
              <a:ext cx="8348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3308400" y="6010200"/>
              <a:ext cx="6541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5" name="Rounded Rectangle 44"/>
          <p:cNvGrpSpPr/>
          <p:nvPr/>
        </p:nvGrpSpPr>
        <p:grpSpPr>
          <a:xfrm>
            <a:off x="5114880" y="5956200"/>
            <a:ext cx="878040" cy="792360"/>
            <a:chOff x="5114880" y="5956200"/>
            <a:chExt cx="878040" cy="792360"/>
          </a:xfrm>
        </p:grpSpPr>
        <p:pic>
          <p:nvPicPr>
            <p:cNvPr id="2316" name="Rounded Rectangle 44" descr=""/>
            <p:cNvPicPr/>
            <p:nvPr/>
          </p:nvPicPr>
          <p:blipFill>
            <a:blip r:embed="rId28"/>
            <a:stretch/>
          </p:blipFill>
          <p:spPr>
            <a:xfrm>
              <a:off x="5114880" y="5956200"/>
              <a:ext cx="8780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7" name=""/>
            <p:cNvSpPr/>
            <p:nvPr/>
          </p:nvSpPr>
          <p:spPr>
            <a:xfrm>
              <a:off x="5202360" y="6021360"/>
              <a:ext cx="70488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8" name="Rounded Rectangle 45"/>
          <p:cNvGrpSpPr/>
          <p:nvPr/>
        </p:nvGrpSpPr>
        <p:grpSpPr>
          <a:xfrm>
            <a:off x="6046920" y="5956200"/>
            <a:ext cx="884160" cy="792360"/>
            <a:chOff x="6046920" y="5956200"/>
            <a:chExt cx="884160" cy="792360"/>
          </a:xfrm>
        </p:grpSpPr>
        <p:pic>
          <p:nvPicPr>
            <p:cNvPr id="2319" name="Rounded Rectangle 45" descr=""/>
            <p:cNvPicPr/>
            <p:nvPr/>
          </p:nvPicPr>
          <p:blipFill>
            <a:blip r:embed="rId29"/>
            <a:stretch/>
          </p:blipFill>
          <p:spPr>
            <a:xfrm>
              <a:off x="6046920" y="5956200"/>
              <a:ext cx="8841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>
              <a:off x="6138720" y="6021360"/>
              <a:ext cx="70488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1" name="Rounded Rectangle 47"/>
          <p:cNvGrpSpPr/>
          <p:nvPr/>
        </p:nvGrpSpPr>
        <p:grpSpPr>
          <a:xfrm>
            <a:off x="7974000" y="5956200"/>
            <a:ext cx="878040" cy="792360"/>
            <a:chOff x="7974000" y="5956200"/>
            <a:chExt cx="878040" cy="792360"/>
          </a:xfrm>
        </p:grpSpPr>
        <p:pic>
          <p:nvPicPr>
            <p:cNvPr id="2322" name="Rounded Rectangle 47" descr=""/>
            <p:cNvPicPr/>
            <p:nvPr/>
          </p:nvPicPr>
          <p:blipFill>
            <a:blip r:embed="rId30"/>
            <a:stretch/>
          </p:blipFill>
          <p:spPr>
            <a:xfrm>
              <a:off x="7974000" y="5956200"/>
              <a:ext cx="8780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3" name=""/>
            <p:cNvSpPr/>
            <p:nvPr/>
          </p:nvSpPr>
          <p:spPr>
            <a:xfrm>
              <a:off x="8061480" y="6021360"/>
              <a:ext cx="7045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4" name="Picture 2" descr=""/>
          <p:cNvPicPr/>
          <p:nvPr/>
        </p:nvPicPr>
        <p:blipFill>
          <a:blip r:embed="rId31"/>
          <a:stretch/>
        </p:blipFill>
        <p:spPr>
          <a:xfrm>
            <a:off x="6240600" y="2828880"/>
            <a:ext cx="523800" cy="51768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3" descr=""/>
          <p:cNvPicPr/>
          <p:nvPr/>
        </p:nvPicPr>
        <p:blipFill>
          <a:blip r:embed="rId32"/>
          <a:stretch/>
        </p:blipFill>
        <p:spPr>
          <a:xfrm>
            <a:off x="8151840" y="2828880"/>
            <a:ext cx="523800" cy="517680"/>
          </a:xfrm>
          <a:prstGeom prst="rect">
            <a:avLst/>
          </a:prstGeom>
          <a:ln w="0">
            <a:noFill/>
          </a:ln>
        </p:spPr>
      </p:pic>
      <p:pic>
        <p:nvPicPr>
          <p:cNvPr id="2326" name="Picture 7" descr=""/>
          <p:cNvPicPr/>
          <p:nvPr/>
        </p:nvPicPr>
        <p:blipFill>
          <a:blip r:embed="rId33"/>
          <a:stretch/>
        </p:blipFill>
        <p:spPr>
          <a:xfrm>
            <a:off x="8158320" y="5276880"/>
            <a:ext cx="519120" cy="519120"/>
          </a:xfrm>
          <a:prstGeom prst="rect">
            <a:avLst/>
          </a:prstGeom>
          <a:ln w="0">
            <a:noFill/>
          </a:ln>
        </p:spPr>
      </p:pic>
      <p:pic>
        <p:nvPicPr>
          <p:cNvPr id="2327" name="Picture 8" descr=""/>
          <p:cNvPicPr/>
          <p:nvPr/>
        </p:nvPicPr>
        <p:blipFill>
          <a:blip r:embed="rId34"/>
          <a:stretch/>
        </p:blipFill>
        <p:spPr>
          <a:xfrm>
            <a:off x="3373560" y="2008080"/>
            <a:ext cx="523800" cy="517680"/>
          </a:xfrm>
          <a:prstGeom prst="rect">
            <a:avLst/>
          </a:prstGeom>
          <a:ln w="0">
            <a:noFill/>
          </a:ln>
        </p:spPr>
      </p:pic>
      <p:pic>
        <p:nvPicPr>
          <p:cNvPr id="2328" name="Picture 4" descr=""/>
          <p:cNvPicPr/>
          <p:nvPr/>
        </p:nvPicPr>
        <p:blipFill>
          <a:blip r:embed="rId35"/>
          <a:stretch/>
        </p:blipFill>
        <p:spPr>
          <a:xfrm>
            <a:off x="2436840" y="6070680"/>
            <a:ext cx="523800" cy="517320"/>
          </a:xfrm>
          <a:prstGeom prst="rect">
            <a:avLst/>
          </a:prstGeom>
          <a:ln w="0">
            <a:noFill/>
          </a:ln>
        </p:spPr>
      </p:pic>
      <p:pic>
        <p:nvPicPr>
          <p:cNvPr id="2329" name="Picture 5" descr=""/>
          <p:cNvPicPr/>
          <p:nvPr/>
        </p:nvPicPr>
        <p:blipFill>
          <a:blip r:embed="rId36"/>
          <a:stretch/>
        </p:blipFill>
        <p:spPr>
          <a:xfrm>
            <a:off x="6229440" y="4446720"/>
            <a:ext cx="523800" cy="517320"/>
          </a:xfrm>
          <a:prstGeom prst="rect">
            <a:avLst/>
          </a:prstGeom>
          <a:ln w="0">
            <a:noFill/>
          </a:ln>
        </p:spPr>
      </p:pic>
      <p:pic>
        <p:nvPicPr>
          <p:cNvPr id="2330" name="Picture 7" descr=""/>
          <p:cNvPicPr/>
          <p:nvPr/>
        </p:nvPicPr>
        <p:blipFill>
          <a:blip r:embed="rId37"/>
          <a:stretch/>
        </p:blipFill>
        <p:spPr>
          <a:xfrm>
            <a:off x="4309920" y="2828880"/>
            <a:ext cx="524160" cy="517680"/>
          </a:xfrm>
          <a:prstGeom prst="rect">
            <a:avLst/>
          </a:prstGeom>
          <a:ln w="0">
            <a:noFill/>
          </a:ln>
        </p:spPr>
      </p:pic>
      <p:pic>
        <p:nvPicPr>
          <p:cNvPr id="2331" name="Picture 6" descr=""/>
          <p:cNvPicPr/>
          <p:nvPr/>
        </p:nvPicPr>
        <p:blipFill>
          <a:blip r:embed="rId38"/>
          <a:stretch/>
        </p:blipFill>
        <p:spPr>
          <a:xfrm>
            <a:off x="3373560" y="3648240"/>
            <a:ext cx="523800" cy="517320"/>
          </a:xfrm>
          <a:prstGeom prst="rect">
            <a:avLst/>
          </a:prstGeom>
          <a:ln w="0">
            <a:noFill/>
          </a:ln>
        </p:spPr>
      </p:pic>
      <p:pic>
        <p:nvPicPr>
          <p:cNvPr id="2332" name="Picture 9" descr=""/>
          <p:cNvPicPr/>
          <p:nvPr/>
        </p:nvPicPr>
        <p:blipFill>
          <a:blip r:embed="rId39"/>
          <a:stretch/>
        </p:blipFill>
        <p:spPr>
          <a:xfrm>
            <a:off x="7215120" y="6059520"/>
            <a:ext cx="523800" cy="51732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10" descr=""/>
          <p:cNvPicPr/>
          <p:nvPr/>
        </p:nvPicPr>
        <p:blipFill>
          <a:blip r:embed="rId40"/>
          <a:stretch/>
        </p:blipFill>
        <p:spPr>
          <a:xfrm>
            <a:off x="2438280" y="5267160"/>
            <a:ext cx="524160" cy="517680"/>
          </a:xfrm>
          <a:prstGeom prst="rect">
            <a:avLst/>
          </a:prstGeom>
          <a:ln w="0">
            <a:noFill/>
          </a:ln>
        </p:spPr>
      </p:pic>
      <p:pic>
        <p:nvPicPr>
          <p:cNvPr id="2334" name="Picture 11" descr=""/>
          <p:cNvPicPr/>
          <p:nvPr/>
        </p:nvPicPr>
        <p:blipFill>
          <a:blip r:embed="rId41"/>
          <a:stretch/>
        </p:blipFill>
        <p:spPr>
          <a:xfrm>
            <a:off x="5292720" y="4446720"/>
            <a:ext cx="523800" cy="517320"/>
          </a:xfrm>
          <a:prstGeom prst="rect">
            <a:avLst/>
          </a:prstGeom>
          <a:ln w="0">
            <a:noFill/>
          </a:ln>
        </p:spPr>
      </p:pic>
      <p:pic>
        <p:nvPicPr>
          <p:cNvPr id="2335" name="Picture 12" descr=""/>
          <p:cNvPicPr/>
          <p:nvPr/>
        </p:nvPicPr>
        <p:blipFill>
          <a:blip r:embed="rId42"/>
          <a:stretch/>
        </p:blipFill>
        <p:spPr>
          <a:xfrm>
            <a:off x="4309920" y="3621240"/>
            <a:ext cx="524160" cy="517320"/>
          </a:xfrm>
          <a:prstGeom prst="rect">
            <a:avLst/>
          </a:prstGeom>
          <a:ln w="0">
            <a:noFill/>
          </a:ln>
        </p:spPr>
      </p:pic>
      <p:grpSp>
        <p:nvGrpSpPr>
          <p:cNvPr id="2336" name="Rounded Rectangle 8"/>
          <p:cNvGrpSpPr/>
          <p:nvPr/>
        </p:nvGrpSpPr>
        <p:grpSpPr>
          <a:xfrm>
            <a:off x="3219480" y="1884240"/>
            <a:ext cx="834840" cy="792360"/>
            <a:chOff x="3219480" y="1884240"/>
            <a:chExt cx="834840" cy="792360"/>
          </a:xfrm>
        </p:grpSpPr>
        <p:pic>
          <p:nvPicPr>
            <p:cNvPr id="2337" name="Rounded Rectangle 8" descr=""/>
            <p:cNvPicPr/>
            <p:nvPr/>
          </p:nvPicPr>
          <p:blipFill>
            <a:blip r:embed="rId43"/>
            <a:stretch/>
          </p:blipFill>
          <p:spPr>
            <a:xfrm>
              <a:off x="3219480" y="1884240"/>
              <a:ext cx="8348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8" name=""/>
            <p:cNvSpPr/>
            <p:nvPr/>
          </p:nvSpPr>
          <p:spPr>
            <a:xfrm>
              <a:off x="3308400" y="1949400"/>
              <a:ext cx="6541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Rounded Rectangle 13"/>
          <p:cNvGrpSpPr/>
          <p:nvPr/>
        </p:nvGrpSpPr>
        <p:grpSpPr>
          <a:xfrm>
            <a:off x="4157640" y="2719440"/>
            <a:ext cx="828720" cy="792000"/>
            <a:chOff x="4157640" y="2719440"/>
            <a:chExt cx="828720" cy="792000"/>
          </a:xfrm>
        </p:grpSpPr>
        <p:pic>
          <p:nvPicPr>
            <p:cNvPr id="2340" name="Rounded Rectangle 13" descr=""/>
            <p:cNvPicPr/>
            <p:nvPr/>
          </p:nvPicPr>
          <p:blipFill>
            <a:blip r:embed="rId44"/>
            <a:stretch/>
          </p:blipFill>
          <p:spPr>
            <a:xfrm>
              <a:off x="4157640" y="2719440"/>
              <a:ext cx="8287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1" name=""/>
            <p:cNvSpPr/>
            <p:nvPr/>
          </p:nvSpPr>
          <p:spPr>
            <a:xfrm>
              <a:off x="4245120" y="2781360"/>
              <a:ext cx="6537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Rounded Rectangle 17"/>
          <p:cNvGrpSpPr/>
          <p:nvPr/>
        </p:nvGrpSpPr>
        <p:grpSpPr>
          <a:xfrm>
            <a:off x="6046920" y="2719440"/>
            <a:ext cx="884160" cy="792000"/>
            <a:chOff x="6046920" y="2719440"/>
            <a:chExt cx="884160" cy="792000"/>
          </a:xfrm>
        </p:grpSpPr>
        <p:pic>
          <p:nvPicPr>
            <p:cNvPr id="2343" name="Rounded Rectangle 17" descr=""/>
            <p:cNvPicPr/>
            <p:nvPr/>
          </p:nvPicPr>
          <p:blipFill>
            <a:blip r:embed="rId45"/>
            <a:stretch/>
          </p:blipFill>
          <p:spPr>
            <a:xfrm>
              <a:off x="6046920" y="2719440"/>
              <a:ext cx="884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4" name=""/>
            <p:cNvSpPr/>
            <p:nvPr/>
          </p:nvSpPr>
          <p:spPr>
            <a:xfrm>
              <a:off x="6138720" y="2781360"/>
              <a:ext cx="7048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Rounded Rectangle 19"/>
          <p:cNvGrpSpPr/>
          <p:nvPr/>
        </p:nvGrpSpPr>
        <p:grpSpPr>
          <a:xfrm>
            <a:off x="7974000" y="2719440"/>
            <a:ext cx="878040" cy="792000"/>
            <a:chOff x="7974000" y="2719440"/>
            <a:chExt cx="878040" cy="792000"/>
          </a:xfrm>
        </p:grpSpPr>
        <p:pic>
          <p:nvPicPr>
            <p:cNvPr id="2346" name="Rounded Rectangle 19" descr=""/>
            <p:cNvPicPr/>
            <p:nvPr/>
          </p:nvPicPr>
          <p:blipFill>
            <a:blip r:embed="rId46"/>
            <a:stretch/>
          </p:blipFill>
          <p:spPr>
            <a:xfrm>
              <a:off x="7974000" y="2719440"/>
              <a:ext cx="878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7" name=""/>
            <p:cNvSpPr/>
            <p:nvPr/>
          </p:nvSpPr>
          <p:spPr>
            <a:xfrm>
              <a:off x="8061480" y="2781360"/>
              <a:ext cx="70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8" name="Rounded Rectangle 20"/>
          <p:cNvGrpSpPr/>
          <p:nvPr/>
        </p:nvGrpSpPr>
        <p:grpSpPr>
          <a:xfrm>
            <a:off x="4157640" y="3511440"/>
            <a:ext cx="828720" cy="785880"/>
            <a:chOff x="4157640" y="3511440"/>
            <a:chExt cx="828720" cy="785880"/>
          </a:xfrm>
        </p:grpSpPr>
        <p:pic>
          <p:nvPicPr>
            <p:cNvPr id="2349" name="Rounded Rectangle 20" descr=""/>
            <p:cNvPicPr/>
            <p:nvPr/>
          </p:nvPicPr>
          <p:blipFill>
            <a:blip r:embed="rId47"/>
            <a:stretch/>
          </p:blipFill>
          <p:spPr>
            <a:xfrm>
              <a:off x="4157640" y="3511440"/>
              <a:ext cx="82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0" name=""/>
            <p:cNvSpPr/>
            <p:nvPr/>
          </p:nvSpPr>
          <p:spPr>
            <a:xfrm>
              <a:off x="4245120" y="3573360"/>
              <a:ext cx="6537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1" name="Rounded Rectangle 22"/>
          <p:cNvGrpSpPr/>
          <p:nvPr/>
        </p:nvGrpSpPr>
        <p:grpSpPr>
          <a:xfrm>
            <a:off x="3219480" y="3511440"/>
            <a:ext cx="834840" cy="785880"/>
            <a:chOff x="3219480" y="3511440"/>
            <a:chExt cx="834840" cy="785880"/>
          </a:xfrm>
        </p:grpSpPr>
        <p:pic>
          <p:nvPicPr>
            <p:cNvPr id="2352" name="Rounded Rectangle 22" descr=""/>
            <p:cNvPicPr/>
            <p:nvPr/>
          </p:nvPicPr>
          <p:blipFill>
            <a:blip r:embed="rId48"/>
            <a:stretch/>
          </p:blipFill>
          <p:spPr>
            <a:xfrm>
              <a:off x="3219480" y="3511440"/>
              <a:ext cx="8348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3" name=""/>
            <p:cNvSpPr/>
            <p:nvPr/>
          </p:nvSpPr>
          <p:spPr>
            <a:xfrm>
              <a:off x="3308400" y="3573360"/>
              <a:ext cx="6541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4" name="Rounded Rectangle 30"/>
          <p:cNvGrpSpPr/>
          <p:nvPr/>
        </p:nvGrpSpPr>
        <p:grpSpPr>
          <a:xfrm>
            <a:off x="5114880" y="4322880"/>
            <a:ext cx="878040" cy="792000"/>
            <a:chOff x="5114880" y="4322880"/>
            <a:chExt cx="878040" cy="792000"/>
          </a:xfrm>
        </p:grpSpPr>
        <p:pic>
          <p:nvPicPr>
            <p:cNvPr id="2355" name="Rounded Rectangle 30" descr=""/>
            <p:cNvPicPr/>
            <p:nvPr/>
          </p:nvPicPr>
          <p:blipFill>
            <a:blip r:embed="rId49"/>
            <a:stretch/>
          </p:blipFill>
          <p:spPr>
            <a:xfrm>
              <a:off x="5114880" y="4322880"/>
              <a:ext cx="878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6" name=""/>
            <p:cNvSpPr/>
            <p:nvPr/>
          </p:nvSpPr>
          <p:spPr>
            <a:xfrm>
              <a:off x="5202360" y="4387680"/>
              <a:ext cx="70488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7" name="Rounded Rectangle 31"/>
          <p:cNvGrpSpPr/>
          <p:nvPr/>
        </p:nvGrpSpPr>
        <p:grpSpPr>
          <a:xfrm>
            <a:off x="6046920" y="4334040"/>
            <a:ext cx="884160" cy="792000"/>
            <a:chOff x="6046920" y="4334040"/>
            <a:chExt cx="884160" cy="792000"/>
          </a:xfrm>
        </p:grpSpPr>
        <p:pic>
          <p:nvPicPr>
            <p:cNvPr id="2358" name="Rounded Rectangle 31" descr=""/>
            <p:cNvPicPr/>
            <p:nvPr/>
          </p:nvPicPr>
          <p:blipFill>
            <a:blip r:embed="rId50"/>
            <a:stretch/>
          </p:blipFill>
          <p:spPr>
            <a:xfrm>
              <a:off x="6046920" y="4334040"/>
              <a:ext cx="8841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9" name=""/>
            <p:cNvSpPr/>
            <p:nvPr/>
          </p:nvSpPr>
          <p:spPr>
            <a:xfrm>
              <a:off x="6138720" y="4398840"/>
              <a:ext cx="70488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0" name="Rounded Rectangle 35"/>
          <p:cNvGrpSpPr/>
          <p:nvPr/>
        </p:nvGrpSpPr>
        <p:grpSpPr>
          <a:xfrm>
            <a:off x="2286000" y="5151600"/>
            <a:ext cx="828720" cy="792000"/>
            <a:chOff x="2286000" y="5151600"/>
            <a:chExt cx="828720" cy="792000"/>
          </a:xfrm>
        </p:grpSpPr>
        <p:pic>
          <p:nvPicPr>
            <p:cNvPr id="2361" name="Rounded Rectangle 35" descr=""/>
            <p:cNvPicPr/>
            <p:nvPr/>
          </p:nvPicPr>
          <p:blipFill>
            <a:blip r:embed="rId51"/>
            <a:stretch/>
          </p:blipFill>
          <p:spPr>
            <a:xfrm>
              <a:off x="2286000" y="5151600"/>
              <a:ext cx="8287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2" name=""/>
            <p:cNvSpPr/>
            <p:nvPr/>
          </p:nvSpPr>
          <p:spPr>
            <a:xfrm>
              <a:off x="2373480" y="5218200"/>
              <a:ext cx="6523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3" name="Rounded Rectangle 40"/>
          <p:cNvGrpSpPr/>
          <p:nvPr/>
        </p:nvGrpSpPr>
        <p:grpSpPr>
          <a:xfrm>
            <a:off x="7974000" y="5151600"/>
            <a:ext cx="878040" cy="792000"/>
            <a:chOff x="7974000" y="5151600"/>
            <a:chExt cx="878040" cy="792000"/>
          </a:xfrm>
        </p:grpSpPr>
        <p:pic>
          <p:nvPicPr>
            <p:cNvPr id="2364" name="Rounded Rectangle 40" descr=""/>
            <p:cNvPicPr/>
            <p:nvPr/>
          </p:nvPicPr>
          <p:blipFill>
            <a:blip r:embed="rId52"/>
            <a:stretch/>
          </p:blipFill>
          <p:spPr>
            <a:xfrm>
              <a:off x="7974000" y="5151600"/>
              <a:ext cx="878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"/>
            <p:cNvSpPr/>
            <p:nvPr/>
          </p:nvSpPr>
          <p:spPr>
            <a:xfrm>
              <a:off x="8061480" y="5218200"/>
              <a:ext cx="70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6" name="Rounded Rectangle 42"/>
          <p:cNvGrpSpPr/>
          <p:nvPr/>
        </p:nvGrpSpPr>
        <p:grpSpPr>
          <a:xfrm>
            <a:off x="2286000" y="5956200"/>
            <a:ext cx="828720" cy="792360"/>
            <a:chOff x="2286000" y="5956200"/>
            <a:chExt cx="828720" cy="792360"/>
          </a:xfrm>
        </p:grpSpPr>
        <p:pic>
          <p:nvPicPr>
            <p:cNvPr id="2367" name="Rounded Rectangle 42" descr=""/>
            <p:cNvPicPr/>
            <p:nvPr/>
          </p:nvPicPr>
          <p:blipFill>
            <a:blip r:embed="rId53"/>
            <a:stretch/>
          </p:blipFill>
          <p:spPr>
            <a:xfrm>
              <a:off x="2286000" y="5956200"/>
              <a:ext cx="8287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8" name=""/>
            <p:cNvSpPr/>
            <p:nvPr/>
          </p:nvSpPr>
          <p:spPr>
            <a:xfrm>
              <a:off x="2373480" y="6021360"/>
              <a:ext cx="6523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9" name="Rounded Rectangle 46"/>
          <p:cNvGrpSpPr/>
          <p:nvPr/>
        </p:nvGrpSpPr>
        <p:grpSpPr>
          <a:xfrm>
            <a:off x="7034040" y="5956200"/>
            <a:ext cx="884520" cy="792360"/>
            <a:chOff x="7034040" y="5956200"/>
            <a:chExt cx="884520" cy="792360"/>
          </a:xfrm>
        </p:grpSpPr>
        <p:pic>
          <p:nvPicPr>
            <p:cNvPr id="2370" name="Rounded Rectangle 46" descr=""/>
            <p:cNvPicPr/>
            <p:nvPr/>
          </p:nvPicPr>
          <p:blipFill>
            <a:blip r:embed="rId54"/>
            <a:stretch/>
          </p:blipFill>
          <p:spPr>
            <a:xfrm>
              <a:off x="7034040" y="5956200"/>
              <a:ext cx="8845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1" name=""/>
            <p:cNvSpPr/>
            <p:nvPr/>
          </p:nvSpPr>
          <p:spPr>
            <a:xfrm>
              <a:off x="7126200" y="6021360"/>
              <a:ext cx="703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restart="whenNotActive" nodeType="interactiveSeq" fill="hold">
                <p:stCondLst>
                  <p:cond evt="onClick">
                    <p:tgtEl>
                      <p:spTgt spid="2237"/>
                    </p:tgtEl>
                  </p:cond>
                </p:stCondLst>
                <p:childTnLst>
                  <p:par>
                    <p:cTn id="797" nodeType="clickEffect" fill="hold">
                      <p:stCondLst>
                        <p:cond evt="onClick">
                          <p:tgtEl>
                            <p:spTgt spid="2237"/>
                          </p:tgtEl>
                        </p:cond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20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2000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5" restart="whenNotActive" nodeType="interactiveSeq" fill="hold">
                <p:stCondLst>
                  <p:cond evt="onClick">
                    <p:tgtEl>
                      <p:spTgt spid="2336"/>
                    </p:tgtEl>
                  </p:cond>
                </p:stCondLst>
                <p:childTnLst>
                  <p:par>
                    <p:cTn id="806" nodeType="clickEffect" fill="hold">
                      <p:stCondLst>
                        <p:cond evt="onClick">
                          <p:tgtEl>
                            <p:spTgt spid="2336"/>
                          </p:tgtEl>
                        </p:cond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2234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2234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20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2000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2240"/>
                    </p:tgtEl>
                  </p:cond>
                </p:stCondLst>
                <p:childTnLst>
                  <p:par>
                    <p:cTn id="824" nodeType="clickEffect" fill="hold">
                      <p:stCondLst>
                        <p:cond evt="onClick">
                          <p:tgtEl>
                            <p:spTgt spid="2240"/>
                          </p:tgtEl>
                        </p:cond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20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2000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2243"/>
                    </p:tgtEl>
                  </p:cond>
                </p:stCondLst>
                <p:childTnLst>
                  <p:par>
                    <p:cTn id="833" nodeType="clickEffect" fill="hold">
                      <p:stCondLst>
                        <p:cond evt="onClick">
                          <p:tgtEl>
                            <p:spTgt spid="2243"/>
                          </p:tgtEl>
                        </p:cond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20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2000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2246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2246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20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2000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249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2249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2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2000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2252"/>
                    </p:tgtEl>
                  </p:cond>
                </p:stCondLst>
                <p:childTnLst>
                  <p:par>
                    <p:cTn id="860" nodeType="clickEffect" fill="hold">
                      <p:stCondLst>
                        <p:cond evt="onClick">
                          <p:tgtEl>
                            <p:spTgt spid="2252"/>
                          </p:tgtEl>
                        </p:cond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20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2000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2255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2255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20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2339"/>
                    </p:tgtEl>
                  </p:cond>
                </p:stCondLst>
                <p:childTnLst>
                  <p:par>
                    <p:cTn id="878" nodeType="clickEffect" fill="hold">
                      <p:stCondLst>
                        <p:cond evt="onClick">
                          <p:tgtEl>
                            <p:spTgt spid="2339"/>
                          </p:tgtEl>
                        </p:cond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2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2000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2258"/>
                    </p:tgtEl>
                  </p:cond>
                </p:stCondLst>
                <p:childTnLst>
                  <p:par>
                    <p:cTn id="887" nodeType="clickEffect" fill="hold">
                      <p:stCondLst>
                        <p:cond evt="onClick">
                          <p:tgtEl>
                            <p:spTgt spid="2258"/>
                          </p:tgtEl>
                        </p:cond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20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2000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2342"/>
                    </p:tgtEl>
                  </p:cond>
                </p:stCondLst>
                <p:childTnLst>
                  <p:par>
                    <p:cTn id="896" nodeType="clickEffect" fill="hold">
                      <p:stCondLst>
                        <p:cond evt="onClick">
                          <p:tgtEl>
                            <p:spTgt spid="2342"/>
                          </p:tgtEl>
                        </p:cond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9" dur="20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2000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2261"/>
                    </p:tgtEl>
                  </p:cond>
                </p:stCondLst>
                <p:childTnLst>
                  <p:par>
                    <p:cTn id="905" nodeType="clickEffect" fill="hold">
                      <p:stCondLst>
                        <p:cond evt="onClick">
                          <p:tgtEl>
                            <p:spTgt spid="2261"/>
                          </p:tgtEl>
                        </p:cond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2000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2345"/>
                    </p:tgtEl>
                  </p:cond>
                </p:stCondLst>
                <p:childTnLst>
                  <p:par>
                    <p:cTn id="914" nodeType="clickEffect" fill="hold">
                      <p:stCondLst>
                        <p:cond evt="onClick">
                          <p:tgtEl>
                            <p:spTgt spid="2345"/>
                          </p:tgtEl>
                        </p:cond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20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2000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2264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2264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20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2000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351"/>
                    </p:tgtEl>
                  </p:cond>
                </p:stCondLst>
                <p:childTnLst>
                  <p:par>
                    <p:cTn id="932" nodeType="clickEffect" fill="hold">
                      <p:stCondLst>
                        <p:cond evt="onClick">
                          <p:tgtEl>
                            <p:spTgt spid="2351"/>
                          </p:tgtEl>
                        </p:cond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20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2000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2348"/>
                    </p:tgtEl>
                  </p:cond>
                </p:stCondLst>
                <p:childTnLst>
                  <p:par>
                    <p:cTn id="941" nodeType="clickEffect" fill="hold">
                      <p:stCondLst>
                        <p:cond evt="onClick">
                          <p:tgtEl>
                            <p:spTgt spid="2348"/>
                          </p:tgtEl>
                        </p:cond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2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2000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2267"/>
                    </p:tgtEl>
                  </p:cond>
                </p:stCondLst>
                <p:childTnLst>
                  <p:par>
                    <p:cTn id="950" nodeType="clickEffect" fill="hold">
                      <p:stCondLst>
                        <p:cond evt="onClick">
                          <p:tgtEl>
                            <p:spTgt spid="2267"/>
                          </p:tgtEl>
                        </p:cond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20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2000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8" restart="whenNotActive" nodeType="interactiveSeq" fill="hold">
                <p:stCondLst>
                  <p:cond evt="onClick">
                    <p:tgtEl>
                      <p:spTgt spid="2270"/>
                    </p:tgtEl>
                  </p:cond>
                </p:stCondLst>
                <p:childTnLst>
                  <p:par>
                    <p:cTn id="959" nodeType="clickEffect" fill="hold">
                      <p:stCondLst>
                        <p:cond evt="onClick">
                          <p:tgtEl>
                            <p:spTgt spid="2270"/>
                          </p:tgtEl>
                        </p:cond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20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2000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2273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2273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20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2000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0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2276"/>
                    </p:tgtEl>
                  </p:cond>
                </p:stCondLst>
                <p:childTnLst>
                  <p:par>
                    <p:cTn id="977" nodeType="clickEffect" fill="hold">
                      <p:stCondLst>
                        <p:cond evt="onClick">
                          <p:tgtEl>
                            <p:spTgt spid="2276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20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2000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2282"/>
                    </p:tgtEl>
                  </p:cond>
                </p:stCondLst>
                <p:childTnLst>
                  <p:par>
                    <p:cTn id="986" nodeType="clickEffect" fill="hold">
                      <p:stCondLst>
                        <p:cond evt="onClick">
                          <p:tgtEl>
                            <p:spTgt spid="2282"/>
                          </p:tgtEl>
                        </p:cond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2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2000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2285"/>
                    </p:tgtEl>
                  </p:cond>
                </p:stCondLst>
                <p:childTnLst>
                  <p:par>
                    <p:cTn id="995" nodeType="clickEffect" fill="hold">
                      <p:stCondLst>
                        <p:cond evt="onClick">
                          <p:tgtEl>
                            <p:spTgt spid="2285"/>
                          </p:tgtEl>
                        </p:cond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20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2000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2279"/>
                    </p:tgtEl>
                  </p:cond>
                </p:stCondLst>
                <p:childTnLst>
                  <p:par>
                    <p:cTn id="1004" nodeType="clickEffect" fill="hold">
                      <p:stCondLst>
                        <p:cond evt="onClick">
                          <p:tgtEl>
                            <p:spTgt spid="2279"/>
                          </p:tgtEl>
                        </p:cond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20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2000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0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2354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2354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20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2000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1" restart="whenNotActive" nodeType="interactiveSeq" fill="hold">
                <p:stCondLst>
                  <p:cond evt="onClick">
                    <p:tgtEl>
                      <p:spTgt spid="2357"/>
                    </p:tgtEl>
                  </p:cond>
                </p:stCondLst>
                <p:childTnLst>
                  <p:par>
                    <p:cTn id="1022" nodeType="clickEffect" fill="hold">
                      <p:stCondLst>
                        <p:cond evt="onClick">
                          <p:tgtEl>
                            <p:spTgt spid="2357"/>
                          </p:tgtEl>
                        </p:cond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20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2000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2288"/>
                    </p:tgtEl>
                  </p:cond>
                </p:stCondLst>
                <p:childTnLst>
                  <p:par>
                    <p:cTn id="1031" nodeType="clickEffect" fill="hold">
                      <p:stCondLst>
                        <p:cond evt="onClick">
                          <p:tgtEl>
                            <p:spTgt spid="2288"/>
                          </p:tgtEl>
                        </p:cond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2000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9" restart="whenNotActive" nodeType="interactiveSeq" fill="hold">
                <p:stCondLst>
                  <p:cond evt="onClick">
                    <p:tgtEl>
                      <p:spTgt spid="2291"/>
                    </p:tgtEl>
                  </p:cond>
                </p:stCondLst>
                <p:childTnLst>
                  <p:par>
                    <p:cTn id="1040" nodeType="clickEffect" fill="hold">
                      <p:stCondLst>
                        <p:cond evt="onClick">
                          <p:tgtEl>
                            <p:spTgt spid="2291"/>
                          </p:tgtEl>
                        </p:cond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3" dur="2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2000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2360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2360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20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2000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0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000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7" restart="whenNotActive" nodeType="interactiveSeq" fill="hold">
                <p:stCondLst>
                  <p:cond evt="onClick">
                    <p:tgtEl>
                      <p:spTgt spid="2297"/>
                    </p:tgtEl>
                  </p:cond>
                </p:stCondLst>
                <p:childTnLst>
                  <p:par>
                    <p:cTn id="1058" nodeType="clickEffect" fill="hold">
                      <p:stCondLst>
                        <p:cond evt="onClick">
                          <p:tgtEl>
                            <p:spTgt spid="2297"/>
                          </p:tgtEl>
                        </p:cond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2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0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6" restart="whenNotActive" nodeType="interactiveSeq" fill="hold">
                <p:stCondLst>
                  <p:cond evt="onClick">
                    <p:tgtEl>
                      <p:spTgt spid="2294"/>
                    </p:tgtEl>
                  </p:cond>
                </p:stCondLst>
                <p:childTnLst>
                  <p:par>
                    <p:cTn id="1067" nodeType="clickEffect" fill="hold">
                      <p:stCondLst>
                        <p:cond evt="onClick">
                          <p:tgtEl>
                            <p:spTgt spid="2294"/>
                          </p:tgtEl>
                        </p:cond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20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5" restart="whenNotActive" nodeType="interactiveSeq" fill="hold">
                <p:stCondLst>
                  <p:cond evt="onClick">
                    <p:tgtEl>
                      <p:spTgt spid="2300"/>
                    </p:tgtEl>
                  </p:cond>
                </p:stCondLst>
                <p:childTnLst>
                  <p:par>
                    <p:cTn id="1076" nodeType="clickEffect" fill="hold">
                      <p:stCondLst>
                        <p:cond evt="onClick">
                          <p:tgtEl>
                            <p:spTgt spid="2300"/>
                          </p:tgtEl>
                        </p:cond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9" dur="20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20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2303"/>
                    </p:tgtEl>
                  </p:cond>
                </p:stCondLst>
                <p:childTnLst>
                  <p:par>
                    <p:cTn id="1085" nodeType="clickEffect" fill="hold">
                      <p:stCondLst>
                        <p:cond evt="onClick">
                          <p:tgtEl>
                            <p:spTgt spid="2303"/>
                          </p:tgtEl>
                        </p:cond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8" dur="2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2000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0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2306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2306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20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2000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2" restart="whenNotActive" nodeType="interactiveSeq" fill="hold">
                <p:stCondLst>
                  <p:cond evt="onClick">
                    <p:tgtEl>
                      <p:spTgt spid="2363"/>
                    </p:tgtEl>
                  </p:cond>
                </p:stCondLst>
                <p:childTnLst>
                  <p:par>
                    <p:cTn id="1103" nodeType="clickEffect" fill="hold">
                      <p:stCondLst>
                        <p:cond evt="onClick">
                          <p:tgtEl>
                            <p:spTgt spid="2363"/>
                          </p:tgtEl>
                        </p:cond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6" dur="20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2000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2366"/>
                    </p:tgtEl>
                  </p:cond>
                </p:stCondLst>
                <p:childTnLst>
                  <p:par>
                    <p:cTn id="1112" nodeType="clickEffect" fill="hold">
                      <p:stCondLst>
                        <p:cond evt="onClick">
                          <p:tgtEl>
                            <p:spTgt spid="2366"/>
                          </p:tgtEl>
                        </p:cond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5" dur="20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2000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0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2312"/>
                    </p:tgtEl>
                  </p:cond>
                </p:stCondLst>
                <p:childTnLst>
                  <p:par>
                    <p:cTn id="1121" nodeType="clickEffect" fill="hold">
                      <p:stCondLst>
                        <p:cond evt="onClick">
                          <p:tgtEl>
                            <p:spTgt spid="2312"/>
                          </p:tgtEl>
                        </p:cond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20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2000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2309"/>
                    </p:tgtEl>
                  </p:cond>
                </p:stCondLst>
                <p:childTnLst>
                  <p:par>
                    <p:cTn id="1130" nodeType="clickEffect" fill="hold">
                      <p:stCondLst>
                        <p:cond evt="onClick">
                          <p:tgtEl>
                            <p:spTgt spid="2309"/>
                          </p:tgtEl>
                        </p:cond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20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2000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0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8" restart="whenNotActive" nodeType="interactiveSeq" fill="hold">
                <p:stCondLst>
                  <p:cond evt="onClick">
                    <p:tgtEl>
                      <p:spTgt spid="2315"/>
                    </p:tgtEl>
                  </p:cond>
                </p:stCondLst>
                <p:childTnLst>
                  <p:par>
                    <p:cTn id="1139" nodeType="clickEffect" fill="hold">
                      <p:stCondLst>
                        <p:cond evt="onClick">
                          <p:tgtEl>
                            <p:spTgt spid="2315"/>
                          </p:tgtEl>
                        </p:cond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2" dur="2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2000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7" restart="whenNotActive" nodeType="interactiveSeq" fill="hold">
                <p:stCondLst>
                  <p:cond evt="onClick">
                    <p:tgtEl>
                      <p:spTgt spid="2318"/>
                    </p:tgtEl>
                  </p:cond>
                </p:stCondLst>
                <p:childTnLst>
                  <p:par>
                    <p:cTn id="1148" nodeType="clickEffect" fill="hold">
                      <p:stCondLst>
                        <p:cond evt="onClick">
                          <p:tgtEl>
                            <p:spTgt spid="2318"/>
                          </p:tgtEl>
                        </p:cond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1" dur="2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2000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0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6" restart="whenNotActive" nodeType="interactiveSeq" fill="hold">
                <p:stCondLst>
                  <p:cond evt="onClick">
                    <p:tgtEl>
                      <p:spTgt spid="2369"/>
                    </p:tgtEl>
                  </p:cond>
                </p:stCondLst>
                <p:childTnLst>
                  <p:par>
                    <p:cTn id="1157" nodeType="clickEffect" fill="hold">
                      <p:stCondLst>
                        <p:cond evt="onClick">
                          <p:tgtEl>
                            <p:spTgt spid="2369"/>
                          </p:tgtEl>
                        </p:cond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0" dur="2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2321"/>
                    </p:tgtEl>
                  </p:cond>
                </p:stCondLst>
                <p:childTnLst>
                  <p:par>
                    <p:cTn id="1166" nodeType="clickEffect" fill="hold">
                      <p:stCondLst>
                        <p:cond evt="onClick">
                          <p:tgtEl>
                            <p:spTgt spid="2321"/>
                          </p:tgtEl>
                        </p:cond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20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Rectangle 51" descr=""/>
          <p:cNvPicPr/>
          <p:nvPr/>
        </p:nvPicPr>
        <p:blipFill>
          <a:blip r:embed="rId1"/>
          <a:stretch/>
        </p:blipFill>
        <p:spPr>
          <a:xfrm>
            <a:off x="7351560" y="4724280"/>
            <a:ext cx="1841760" cy="1957680"/>
          </a:xfrm>
          <a:prstGeom prst="rect">
            <a:avLst/>
          </a:prstGeom>
          <a:ln w="0">
            <a:noFill/>
          </a:ln>
        </p:spPr>
      </p:pic>
      <p:pic>
        <p:nvPicPr>
          <p:cNvPr id="2373" name="Rectangle 53" descr=""/>
          <p:cNvPicPr/>
          <p:nvPr/>
        </p:nvPicPr>
        <p:blipFill>
          <a:blip r:embed="rId2"/>
          <a:stretch/>
        </p:blipFill>
        <p:spPr>
          <a:xfrm>
            <a:off x="5510160" y="4724280"/>
            <a:ext cx="1841400" cy="1957680"/>
          </a:xfrm>
          <a:prstGeom prst="rect">
            <a:avLst/>
          </a:prstGeom>
          <a:ln w="0">
            <a:noFill/>
          </a:ln>
        </p:spPr>
      </p:pic>
      <p:pic>
        <p:nvPicPr>
          <p:cNvPr id="2374" name="Rectangle 54" descr=""/>
          <p:cNvPicPr/>
          <p:nvPr/>
        </p:nvPicPr>
        <p:blipFill>
          <a:blip r:embed="rId3"/>
          <a:stretch/>
        </p:blipFill>
        <p:spPr>
          <a:xfrm>
            <a:off x="3670200" y="4773600"/>
            <a:ext cx="1835280" cy="1955880"/>
          </a:xfrm>
          <a:prstGeom prst="rect">
            <a:avLst/>
          </a:prstGeom>
          <a:ln w="0">
            <a:noFill/>
          </a:ln>
        </p:spPr>
      </p:pic>
      <p:pic>
        <p:nvPicPr>
          <p:cNvPr id="2375" name="Rectangle 57" descr=""/>
          <p:cNvPicPr/>
          <p:nvPr/>
        </p:nvPicPr>
        <p:blipFill>
          <a:blip r:embed="rId4"/>
          <a:stretch/>
        </p:blipFill>
        <p:spPr>
          <a:xfrm>
            <a:off x="1725480" y="4681440"/>
            <a:ext cx="1955880" cy="1951200"/>
          </a:xfrm>
          <a:prstGeom prst="rect">
            <a:avLst/>
          </a:prstGeom>
          <a:ln w="0">
            <a:noFill/>
          </a:ln>
        </p:spPr>
      </p:pic>
      <p:pic>
        <p:nvPicPr>
          <p:cNvPr id="2376" name="Rectangle 50" descr=""/>
          <p:cNvPicPr/>
          <p:nvPr/>
        </p:nvPicPr>
        <p:blipFill>
          <a:blip r:embed="rId5"/>
          <a:stretch/>
        </p:blipFill>
        <p:spPr>
          <a:xfrm>
            <a:off x="-36360" y="4773600"/>
            <a:ext cx="1834920" cy="1955880"/>
          </a:xfrm>
          <a:prstGeom prst="rect">
            <a:avLst/>
          </a:prstGeom>
          <a:ln w="0">
            <a:noFill/>
          </a:ln>
        </p:spPr>
      </p:pic>
      <p:pic>
        <p:nvPicPr>
          <p:cNvPr id="2377" name="Rectangle 55" descr=""/>
          <p:cNvPicPr/>
          <p:nvPr/>
        </p:nvPicPr>
        <p:blipFill>
          <a:blip r:embed="rId6"/>
          <a:stretch/>
        </p:blipFill>
        <p:spPr>
          <a:xfrm>
            <a:off x="-19080" y="3029040"/>
            <a:ext cx="1835280" cy="1950840"/>
          </a:xfrm>
          <a:prstGeom prst="rect">
            <a:avLst/>
          </a:prstGeom>
          <a:ln w="0">
            <a:noFill/>
          </a:ln>
        </p:spPr>
      </p:pic>
      <p:pic>
        <p:nvPicPr>
          <p:cNvPr id="2378" name="Rectangle 47" descr=""/>
          <p:cNvPicPr/>
          <p:nvPr/>
        </p:nvPicPr>
        <p:blipFill>
          <a:blip r:embed="rId7"/>
          <a:stretch/>
        </p:blipFill>
        <p:spPr>
          <a:xfrm>
            <a:off x="1889280" y="3029040"/>
            <a:ext cx="1834920" cy="1950840"/>
          </a:xfrm>
          <a:prstGeom prst="rect">
            <a:avLst/>
          </a:prstGeom>
          <a:ln w="0">
            <a:noFill/>
          </a:ln>
        </p:spPr>
      </p:pic>
      <p:pic>
        <p:nvPicPr>
          <p:cNvPr id="2379" name="Rectangle 56" descr=""/>
          <p:cNvPicPr/>
          <p:nvPr/>
        </p:nvPicPr>
        <p:blipFill>
          <a:blip r:embed="rId8"/>
          <a:stretch/>
        </p:blipFill>
        <p:spPr>
          <a:xfrm>
            <a:off x="3602160" y="2962440"/>
            <a:ext cx="1957320" cy="1950840"/>
          </a:xfrm>
          <a:prstGeom prst="rect">
            <a:avLst/>
          </a:prstGeom>
          <a:ln w="0">
            <a:noFill/>
          </a:ln>
        </p:spPr>
      </p:pic>
      <p:pic>
        <p:nvPicPr>
          <p:cNvPr id="2380" name="Rectangle 49" descr=""/>
          <p:cNvPicPr/>
          <p:nvPr/>
        </p:nvPicPr>
        <p:blipFill>
          <a:blip r:embed="rId9"/>
          <a:stretch/>
        </p:blipFill>
        <p:spPr>
          <a:xfrm>
            <a:off x="5492880" y="2992320"/>
            <a:ext cx="1834920" cy="1951200"/>
          </a:xfrm>
          <a:prstGeom prst="rect">
            <a:avLst/>
          </a:prstGeom>
          <a:ln w="0">
            <a:noFill/>
          </a:ln>
        </p:spPr>
      </p:pic>
      <p:pic>
        <p:nvPicPr>
          <p:cNvPr id="2381" name="Rectangle 46" descr=""/>
          <p:cNvPicPr/>
          <p:nvPr/>
        </p:nvPicPr>
        <p:blipFill>
          <a:blip r:embed="rId10"/>
          <a:stretch/>
        </p:blipFill>
        <p:spPr>
          <a:xfrm>
            <a:off x="7321680" y="2992320"/>
            <a:ext cx="1834920" cy="1951200"/>
          </a:xfrm>
          <a:prstGeom prst="rect">
            <a:avLst/>
          </a:prstGeom>
          <a:ln w="0">
            <a:noFill/>
          </a:ln>
        </p:spPr>
      </p:pic>
      <p:pic>
        <p:nvPicPr>
          <p:cNvPr id="2382" name="Rectangle 58" descr=""/>
          <p:cNvPicPr/>
          <p:nvPr/>
        </p:nvPicPr>
        <p:blipFill>
          <a:blip r:embed="rId11"/>
          <a:stretch/>
        </p:blipFill>
        <p:spPr>
          <a:xfrm>
            <a:off x="7259760" y="1212840"/>
            <a:ext cx="1957320" cy="1951200"/>
          </a:xfrm>
          <a:prstGeom prst="rect">
            <a:avLst/>
          </a:prstGeom>
          <a:ln w="0">
            <a:noFill/>
          </a:ln>
        </p:spPr>
      </p:pic>
      <p:pic>
        <p:nvPicPr>
          <p:cNvPr id="2383" name="Rectangle 59" descr=""/>
          <p:cNvPicPr/>
          <p:nvPr/>
        </p:nvPicPr>
        <p:blipFill>
          <a:blip r:embed="rId12"/>
          <a:stretch/>
        </p:blipFill>
        <p:spPr>
          <a:xfrm>
            <a:off x="5419800" y="1219320"/>
            <a:ext cx="1955880" cy="1950840"/>
          </a:xfrm>
          <a:prstGeom prst="rect">
            <a:avLst/>
          </a:prstGeom>
          <a:ln w="0">
            <a:noFill/>
          </a:ln>
        </p:spPr>
      </p:pic>
      <p:pic>
        <p:nvPicPr>
          <p:cNvPr id="2384" name="Rectangle 48" descr=""/>
          <p:cNvPicPr/>
          <p:nvPr/>
        </p:nvPicPr>
        <p:blipFill>
          <a:blip r:embed="rId13"/>
          <a:stretch/>
        </p:blipFill>
        <p:spPr>
          <a:xfrm>
            <a:off x="3676680" y="1219320"/>
            <a:ext cx="1833480" cy="1957320"/>
          </a:xfrm>
          <a:prstGeom prst="rect">
            <a:avLst/>
          </a:prstGeom>
          <a:ln w="0">
            <a:noFill/>
          </a:ln>
        </p:spPr>
      </p:pic>
      <p:pic>
        <p:nvPicPr>
          <p:cNvPr id="2385" name="Rectangle 52" descr=""/>
          <p:cNvPicPr/>
          <p:nvPr/>
        </p:nvPicPr>
        <p:blipFill>
          <a:blip r:embed="rId14"/>
          <a:stretch/>
        </p:blipFill>
        <p:spPr>
          <a:xfrm>
            <a:off x="1859040" y="1268280"/>
            <a:ext cx="1841400" cy="1951200"/>
          </a:xfrm>
          <a:prstGeom prst="rect">
            <a:avLst/>
          </a:prstGeom>
          <a:ln w="0">
            <a:noFill/>
          </a:ln>
        </p:spPr>
      </p:pic>
      <p:pic>
        <p:nvPicPr>
          <p:cNvPr id="2386" name="Rectangle 60" descr=""/>
          <p:cNvPicPr/>
          <p:nvPr/>
        </p:nvPicPr>
        <p:blipFill>
          <a:blip r:embed="rId15"/>
          <a:stretch/>
        </p:blipFill>
        <p:spPr>
          <a:xfrm>
            <a:off x="-133200" y="1206360"/>
            <a:ext cx="194940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387" name="Group 31"/>
          <p:cNvGrpSpPr/>
          <p:nvPr/>
        </p:nvGrpSpPr>
        <p:grpSpPr>
          <a:xfrm>
            <a:off x="23760" y="1197000"/>
            <a:ext cx="1771560" cy="1689120"/>
            <a:chOff x="23760" y="1197000"/>
            <a:chExt cx="1771560" cy="1689120"/>
          </a:xfrm>
        </p:grpSpPr>
        <p:sp>
          <p:nvSpPr>
            <p:cNvPr id="2388" name="Rounded Rectangle 1"/>
            <p:cNvSpPr/>
            <p:nvPr/>
          </p:nvSpPr>
          <p:spPr>
            <a:xfrm>
              <a:off x="23760" y="1197000"/>
              <a:ext cx="1771560" cy="168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1b861"/>
                </a:gs>
                <a:gs pos="100000">
                  <a:srgbClr val="61a23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Japanese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Mon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9" name="button day1"/>
            <p:cNvGrpSpPr/>
            <p:nvPr/>
          </p:nvGrpSpPr>
          <p:grpSpPr>
            <a:xfrm>
              <a:off x="1334880" y="2432520"/>
              <a:ext cx="414360" cy="420480"/>
              <a:chOff x="1334880" y="2432520"/>
              <a:chExt cx="414360" cy="420480"/>
            </a:xfrm>
          </p:grpSpPr>
          <p:pic>
            <p:nvPicPr>
              <p:cNvPr id="2390" name="button day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34880" y="2432520"/>
                <a:ext cx="414360" cy="42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1" name=""/>
              <p:cNvSpPr/>
              <p:nvPr/>
            </p:nvSpPr>
            <p:spPr>
              <a:xfrm>
                <a:off x="1397880" y="2498040"/>
                <a:ext cx="288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Rounded MT Bold"/>
                  </a:rPr>
                  <a:t>1</a:t>
                </a:r>
                <a:endParaRPr b="1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2" name="Group 40"/>
          <p:cNvGrpSpPr/>
          <p:nvPr/>
        </p:nvGrpSpPr>
        <p:grpSpPr>
          <a:xfrm>
            <a:off x="23760" y="2924280"/>
            <a:ext cx="1771560" cy="1689120"/>
            <a:chOff x="23760" y="2924280"/>
            <a:chExt cx="1771560" cy="1689120"/>
          </a:xfrm>
        </p:grpSpPr>
        <p:sp>
          <p:nvSpPr>
            <p:cNvPr id="2393" name="Rounded Rectangle 2"/>
            <p:cNvSpPr/>
            <p:nvPr/>
          </p:nvSpPr>
          <p:spPr>
            <a:xfrm>
              <a:off x="23760" y="2924280"/>
              <a:ext cx="1771560" cy="168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1b861"/>
                </a:gs>
                <a:gs pos="100000">
                  <a:srgbClr val="61a23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History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Mon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4" name="button day1"/>
            <p:cNvGrpSpPr/>
            <p:nvPr/>
          </p:nvGrpSpPr>
          <p:grpSpPr>
            <a:xfrm>
              <a:off x="1328760" y="4157640"/>
              <a:ext cx="420480" cy="414360"/>
              <a:chOff x="1328760" y="4157640"/>
              <a:chExt cx="420480" cy="414360"/>
            </a:xfrm>
          </p:grpSpPr>
          <p:pic>
            <p:nvPicPr>
              <p:cNvPr id="2395" name="button day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328760" y="4157640"/>
                <a:ext cx="420480" cy="4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6" name=""/>
              <p:cNvSpPr/>
              <p:nvPr/>
            </p:nvSpPr>
            <p:spPr>
              <a:xfrm>
                <a:off x="1396800" y="4221360"/>
                <a:ext cx="288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Rounded MT Bold"/>
                  </a:rPr>
                  <a:t>6</a:t>
                </a:r>
                <a:endParaRPr b="1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7" name="Group 41"/>
          <p:cNvGrpSpPr/>
          <p:nvPr/>
        </p:nvGrpSpPr>
        <p:grpSpPr>
          <a:xfrm>
            <a:off x="23760" y="4649760"/>
            <a:ext cx="1771560" cy="1690560"/>
            <a:chOff x="23760" y="4649760"/>
            <a:chExt cx="1771560" cy="1690560"/>
          </a:xfrm>
        </p:grpSpPr>
        <p:sp>
          <p:nvSpPr>
            <p:cNvPr id="2398" name="Rounded Rectangle 3"/>
            <p:cNvSpPr/>
            <p:nvPr/>
          </p:nvSpPr>
          <p:spPr>
            <a:xfrm>
              <a:off x="23760" y="4649760"/>
              <a:ext cx="1771560" cy="16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1b861"/>
                </a:gs>
                <a:gs pos="100000">
                  <a:srgbClr val="61a23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Music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Mon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button day1"/>
            <p:cNvGrpSpPr/>
            <p:nvPr/>
          </p:nvGrpSpPr>
          <p:grpSpPr>
            <a:xfrm>
              <a:off x="1341000" y="5864400"/>
              <a:ext cx="420480" cy="420480"/>
              <a:chOff x="1341000" y="5864400"/>
              <a:chExt cx="420480" cy="420480"/>
            </a:xfrm>
          </p:grpSpPr>
          <p:pic>
            <p:nvPicPr>
              <p:cNvPr id="2400" name="button day1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41000" y="5864400"/>
                <a:ext cx="420480" cy="42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1" name=""/>
              <p:cNvSpPr/>
              <p:nvPr/>
            </p:nvSpPr>
            <p:spPr>
              <a:xfrm>
                <a:off x="1406880" y="5931720"/>
                <a:ext cx="288000" cy="2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11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2" name="Group 32"/>
          <p:cNvGrpSpPr/>
          <p:nvPr/>
        </p:nvGrpSpPr>
        <p:grpSpPr>
          <a:xfrm>
            <a:off x="1852560" y="1197000"/>
            <a:ext cx="1771560" cy="1689120"/>
            <a:chOff x="1852560" y="1197000"/>
            <a:chExt cx="1771560" cy="1689120"/>
          </a:xfrm>
        </p:grpSpPr>
        <p:sp>
          <p:nvSpPr>
            <p:cNvPr id="2403" name="Rounded Rectangle 4"/>
            <p:cNvSpPr/>
            <p:nvPr/>
          </p:nvSpPr>
          <p:spPr>
            <a:xfrm>
              <a:off x="1852560" y="1197000"/>
              <a:ext cx="1771560" cy="168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083cb"/>
                </a:gs>
                <a:gs pos="100000">
                  <a:srgbClr val="2e61ba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Math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Tues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4" name="button day1"/>
            <p:cNvGrpSpPr/>
            <p:nvPr/>
          </p:nvGrpSpPr>
          <p:grpSpPr>
            <a:xfrm>
              <a:off x="3157560" y="2432520"/>
              <a:ext cx="420480" cy="420480"/>
              <a:chOff x="3157560" y="2432520"/>
              <a:chExt cx="420480" cy="420480"/>
            </a:xfrm>
          </p:grpSpPr>
          <p:pic>
            <p:nvPicPr>
              <p:cNvPr id="2405" name="button day1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57560" y="2432520"/>
                <a:ext cx="420480" cy="42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6" name=""/>
              <p:cNvSpPr/>
              <p:nvPr/>
            </p:nvSpPr>
            <p:spPr>
              <a:xfrm>
                <a:off x="3223800" y="2498040"/>
                <a:ext cx="288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Rounded MT Bold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7" name="Group 39"/>
          <p:cNvGrpSpPr/>
          <p:nvPr/>
        </p:nvGrpSpPr>
        <p:grpSpPr>
          <a:xfrm>
            <a:off x="1852560" y="2924280"/>
            <a:ext cx="1771560" cy="1689120"/>
            <a:chOff x="1852560" y="2924280"/>
            <a:chExt cx="1771560" cy="1689120"/>
          </a:xfrm>
        </p:grpSpPr>
        <p:sp>
          <p:nvSpPr>
            <p:cNvPr id="2408" name="Rounded Rectangle 5"/>
            <p:cNvSpPr/>
            <p:nvPr/>
          </p:nvSpPr>
          <p:spPr>
            <a:xfrm>
              <a:off x="1852560" y="2924280"/>
              <a:ext cx="1771560" cy="168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083cb"/>
                </a:gs>
                <a:gs pos="100000">
                  <a:srgbClr val="2e61ba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Germ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Tues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9" name="button day1"/>
            <p:cNvGrpSpPr/>
            <p:nvPr/>
          </p:nvGrpSpPr>
          <p:grpSpPr>
            <a:xfrm>
              <a:off x="3157560" y="4163760"/>
              <a:ext cx="420480" cy="420480"/>
              <a:chOff x="3157560" y="4163760"/>
              <a:chExt cx="420480" cy="420480"/>
            </a:xfrm>
          </p:grpSpPr>
          <p:pic>
            <p:nvPicPr>
              <p:cNvPr id="2410" name="button day1" descr=""/>
              <p:cNvPicPr/>
              <p:nvPr/>
            </p:nvPicPr>
            <p:blipFill>
              <a:blip r:embed="rId20"/>
              <a:stretch/>
            </p:blipFill>
            <p:spPr>
              <a:xfrm>
                <a:off x="3157560" y="4163760"/>
                <a:ext cx="420480" cy="42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1" name=""/>
              <p:cNvSpPr/>
              <p:nvPr/>
            </p:nvSpPr>
            <p:spPr>
              <a:xfrm>
                <a:off x="3222720" y="4229280"/>
                <a:ext cx="288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Rounded MT Bold"/>
                  </a:rPr>
                  <a:t>7</a:t>
                </a:r>
                <a:endParaRPr b="1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2" name="Group 42"/>
          <p:cNvGrpSpPr/>
          <p:nvPr/>
        </p:nvGrpSpPr>
        <p:grpSpPr>
          <a:xfrm>
            <a:off x="1852560" y="4649760"/>
            <a:ext cx="1771560" cy="1690560"/>
            <a:chOff x="1852560" y="4649760"/>
            <a:chExt cx="1771560" cy="1690560"/>
          </a:xfrm>
        </p:grpSpPr>
        <p:sp>
          <p:nvSpPr>
            <p:cNvPr id="2413" name="Rounded Rectangle 6"/>
            <p:cNvSpPr/>
            <p:nvPr/>
          </p:nvSpPr>
          <p:spPr>
            <a:xfrm>
              <a:off x="1852560" y="4649760"/>
              <a:ext cx="1771560" cy="16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083cb"/>
                </a:gs>
                <a:gs pos="100000">
                  <a:srgbClr val="2e61ba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P.E.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Tues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4" name="button day1"/>
            <p:cNvGrpSpPr/>
            <p:nvPr/>
          </p:nvGrpSpPr>
          <p:grpSpPr>
            <a:xfrm>
              <a:off x="3169800" y="5864400"/>
              <a:ext cx="414360" cy="420480"/>
              <a:chOff x="3169800" y="5864400"/>
              <a:chExt cx="414360" cy="420480"/>
            </a:xfrm>
          </p:grpSpPr>
          <p:pic>
            <p:nvPicPr>
              <p:cNvPr id="2415" name="button day1" descr=""/>
              <p:cNvPicPr/>
              <p:nvPr/>
            </p:nvPicPr>
            <p:blipFill>
              <a:blip r:embed="rId21"/>
              <a:stretch/>
            </p:blipFill>
            <p:spPr>
              <a:xfrm>
                <a:off x="3169800" y="5864400"/>
                <a:ext cx="414360" cy="42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6" name=""/>
              <p:cNvSpPr/>
              <p:nvPr/>
            </p:nvSpPr>
            <p:spPr>
              <a:xfrm>
                <a:off x="3232800" y="5931720"/>
                <a:ext cx="288000" cy="2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12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7" name="Group 33"/>
          <p:cNvGrpSpPr/>
          <p:nvPr/>
        </p:nvGrpSpPr>
        <p:grpSpPr>
          <a:xfrm>
            <a:off x="3681360" y="1197000"/>
            <a:ext cx="1771560" cy="1689120"/>
            <a:chOff x="3681360" y="1197000"/>
            <a:chExt cx="1771560" cy="1689120"/>
          </a:xfrm>
        </p:grpSpPr>
        <p:sp>
          <p:nvSpPr>
            <p:cNvPr id="2418" name="Rounded Rectangle 7"/>
            <p:cNvSpPr/>
            <p:nvPr/>
          </p:nvSpPr>
          <p:spPr>
            <a:xfrm>
              <a:off x="3681360" y="1197000"/>
              <a:ext cx="1771560" cy="168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746"/>
                </a:gs>
                <a:gs pos="100000">
                  <a:srgbClr val="e5b60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Ar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Wednes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9" name="button day1"/>
            <p:cNvGrpSpPr/>
            <p:nvPr/>
          </p:nvGrpSpPr>
          <p:grpSpPr>
            <a:xfrm>
              <a:off x="4986360" y="2426400"/>
              <a:ext cx="420480" cy="414360"/>
              <a:chOff x="4986360" y="2426400"/>
              <a:chExt cx="420480" cy="414360"/>
            </a:xfrm>
          </p:grpSpPr>
          <p:pic>
            <p:nvPicPr>
              <p:cNvPr id="2420" name="button day1" descr=""/>
              <p:cNvPicPr/>
              <p:nvPr/>
            </p:nvPicPr>
            <p:blipFill>
              <a:blip r:embed="rId22"/>
              <a:stretch/>
            </p:blipFill>
            <p:spPr>
              <a:xfrm>
                <a:off x="4986360" y="2426400"/>
                <a:ext cx="420480" cy="4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1" name=""/>
              <p:cNvSpPr/>
              <p:nvPr/>
            </p:nvSpPr>
            <p:spPr>
              <a:xfrm>
                <a:off x="5051880" y="2490120"/>
                <a:ext cx="288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Rounded MT Bold"/>
                  </a:rPr>
                  <a:t>3</a:t>
                </a:r>
                <a:endParaRPr b="1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2" name="Group 38"/>
          <p:cNvGrpSpPr/>
          <p:nvPr/>
        </p:nvGrpSpPr>
        <p:grpSpPr>
          <a:xfrm>
            <a:off x="3681360" y="2924280"/>
            <a:ext cx="1771560" cy="1689120"/>
            <a:chOff x="3681360" y="2924280"/>
            <a:chExt cx="1771560" cy="1689120"/>
          </a:xfrm>
        </p:grpSpPr>
        <p:sp>
          <p:nvSpPr>
            <p:cNvPr id="2423" name="Rounded Rectangle 8"/>
            <p:cNvSpPr/>
            <p:nvPr/>
          </p:nvSpPr>
          <p:spPr>
            <a:xfrm>
              <a:off x="3681360" y="2924280"/>
              <a:ext cx="1771560" cy="168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746"/>
                </a:gs>
                <a:gs pos="100000">
                  <a:srgbClr val="e5b60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Geograph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Wednes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4" name="button day1"/>
            <p:cNvGrpSpPr/>
            <p:nvPr/>
          </p:nvGrpSpPr>
          <p:grpSpPr>
            <a:xfrm>
              <a:off x="4986360" y="4157640"/>
              <a:ext cx="420480" cy="414360"/>
              <a:chOff x="4986360" y="4157640"/>
              <a:chExt cx="420480" cy="414360"/>
            </a:xfrm>
          </p:grpSpPr>
          <p:pic>
            <p:nvPicPr>
              <p:cNvPr id="2425" name="button day1" descr=""/>
              <p:cNvPicPr/>
              <p:nvPr/>
            </p:nvPicPr>
            <p:blipFill>
              <a:blip r:embed="rId23"/>
              <a:stretch/>
            </p:blipFill>
            <p:spPr>
              <a:xfrm>
                <a:off x="4986360" y="4157640"/>
                <a:ext cx="420480" cy="4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6" name=""/>
              <p:cNvSpPr/>
              <p:nvPr/>
            </p:nvSpPr>
            <p:spPr>
              <a:xfrm>
                <a:off x="5050800" y="4221360"/>
                <a:ext cx="288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Rounded MT Bold"/>
                  </a:rPr>
                  <a:t>8</a:t>
                </a:r>
                <a:endParaRPr b="1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7" name="Group 43"/>
          <p:cNvGrpSpPr/>
          <p:nvPr/>
        </p:nvGrpSpPr>
        <p:grpSpPr>
          <a:xfrm>
            <a:off x="3681360" y="4649760"/>
            <a:ext cx="1771560" cy="1690560"/>
            <a:chOff x="3681360" y="4649760"/>
            <a:chExt cx="1771560" cy="1690560"/>
          </a:xfrm>
        </p:grpSpPr>
        <p:sp>
          <p:nvSpPr>
            <p:cNvPr id="2428" name="Rounded Rectangle 9"/>
            <p:cNvSpPr/>
            <p:nvPr/>
          </p:nvSpPr>
          <p:spPr>
            <a:xfrm>
              <a:off x="3681360" y="4649760"/>
              <a:ext cx="1771560" cy="16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746"/>
                </a:gs>
                <a:gs pos="100000">
                  <a:srgbClr val="e5b60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Science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Wednes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9" name="button day1"/>
            <p:cNvGrpSpPr/>
            <p:nvPr/>
          </p:nvGrpSpPr>
          <p:grpSpPr>
            <a:xfrm>
              <a:off x="4992480" y="5858280"/>
              <a:ext cx="420480" cy="420480"/>
              <a:chOff x="4992480" y="5858280"/>
              <a:chExt cx="420480" cy="420480"/>
            </a:xfrm>
          </p:grpSpPr>
          <p:pic>
            <p:nvPicPr>
              <p:cNvPr id="2430" name="button day1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92480" y="5858280"/>
                <a:ext cx="420480" cy="42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1" name=""/>
              <p:cNvSpPr/>
              <p:nvPr/>
            </p:nvSpPr>
            <p:spPr>
              <a:xfrm>
                <a:off x="5060880" y="5923800"/>
                <a:ext cx="288000" cy="2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13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2" name="Group 34"/>
          <p:cNvGrpSpPr/>
          <p:nvPr/>
        </p:nvGrpSpPr>
        <p:grpSpPr>
          <a:xfrm>
            <a:off x="5510160" y="1197000"/>
            <a:ext cx="1771560" cy="1689120"/>
            <a:chOff x="5510160" y="1197000"/>
            <a:chExt cx="1771560" cy="1689120"/>
          </a:xfrm>
        </p:grpSpPr>
        <p:sp>
          <p:nvSpPr>
            <p:cNvPr id="2433" name="Rounded Rectangle 10"/>
            <p:cNvSpPr/>
            <p:nvPr/>
          </p:nvSpPr>
          <p:spPr>
            <a:xfrm>
              <a:off x="5510160" y="1197000"/>
              <a:ext cx="1771560" cy="168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18c55"/>
                </a:gs>
                <a:gs pos="100000">
                  <a:srgbClr val="e56b1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Spanis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Thurs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4" name="button day1"/>
            <p:cNvGrpSpPr/>
            <p:nvPr/>
          </p:nvGrpSpPr>
          <p:grpSpPr>
            <a:xfrm>
              <a:off x="6815160" y="2426400"/>
              <a:ext cx="414360" cy="414360"/>
              <a:chOff x="6815160" y="2426400"/>
              <a:chExt cx="414360" cy="414360"/>
            </a:xfrm>
          </p:grpSpPr>
          <p:pic>
            <p:nvPicPr>
              <p:cNvPr id="2435" name="button day1" descr=""/>
              <p:cNvPicPr/>
              <p:nvPr/>
            </p:nvPicPr>
            <p:blipFill>
              <a:blip r:embed="rId25"/>
              <a:stretch/>
            </p:blipFill>
            <p:spPr>
              <a:xfrm>
                <a:off x="6815160" y="2426400"/>
                <a:ext cx="414360" cy="4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6" name=""/>
              <p:cNvSpPr/>
              <p:nvPr/>
            </p:nvSpPr>
            <p:spPr>
              <a:xfrm>
                <a:off x="6878160" y="2490120"/>
                <a:ext cx="288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Rounded MT Bold"/>
                  </a:rPr>
                  <a:t>4</a:t>
                </a:r>
                <a:endParaRPr b="1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7" name="Group 37"/>
          <p:cNvGrpSpPr/>
          <p:nvPr/>
        </p:nvGrpSpPr>
        <p:grpSpPr>
          <a:xfrm>
            <a:off x="5510160" y="2924280"/>
            <a:ext cx="1771560" cy="1689120"/>
            <a:chOff x="5510160" y="2924280"/>
            <a:chExt cx="1771560" cy="1689120"/>
          </a:xfrm>
        </p:grpSpPr>
        <p:sp>
          <p:nvSpPr>
            <p:cNvPr id="2438" name="Rounded Rectangle 11"/>
            <p:cNvSpPr/>
            <p:nvPr/>
          </p:nvSpPr>
          <p:spPr>
            <a:xfrm>
              <a:off x="5510160" y="2924280"/>
              <a:ext cx="1771560" cy="168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18c55"/>
                </a:gs>
                <a:gs pos="100000">
                  <a:srgbClr val="e56b1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English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Thurs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9" name="button day1"/>
            <p:cNvGrpSpPr/>
            <p:nvPr/>
          </p:nvGrpSpPr>
          <p:grpSpPr>
            <a:xfrm>
              <a:off x="6809040" y="4157640"/>
              <a:ext cx="420480" cy="414360"/>
              <a:chOff x="6809040" y="4157640"/>
              <a:chExt cx="420480" cy="414360"/>
            </a:xfrm>
          </p:grpSpPr>
          <p:pic>
            <p:nvPicPr>
              <p:cNvPr id="2440" name="button day1" descr=""/>
              <p:cNvPicPr/>
              <p:nvPr/>
            </p:nvPicPr>
            <p:blipFill>
              <a:blip r:embed="rId26"/>
              <a:stretch/>
            </p:blipFill>
            <p:spPr>
              <a:xfrm>
                <a:off x="6809040" y="4157640"/>
                <a:ext cx="420480" cy="4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1" name=""/>
              <p:cNvSpPr/>
              <p:nvPr/>
            </p:nvSpPr>
            <p:spPr>
              <a:xfrm>
                <a:off x="6877080" y="4221360"/>
                <a:ext cx="288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Rounded MT Bold"/>
                  </a:rPr>
                  <a:t>9</a:t>
                </a:r>
                <a:endParaRPr b="1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2" name="Group 44"/>
          <p:cNvGrpSpPr/>
          <p:nvPr/>
        </p:nvGrpSpPr>
        <p:grpSpPr>
          <a:xfrm>
            <a:off x="5510160" y="4649760"/>
            <a:ext cx="1771560" cy="1690560"/>
            <a:chOff x="5510160" y="4649760"/>
            <a:chExt cx="1771560" cy="1690560"/>
          </a:xfrm>
        </p:grpSpPr>
        <p:sp>
          <p:nvSpPr>
            <p:cNvPr id="2443" name="Rounded Rectangle 12"/>
            <p:cNvSpPr/>
            <p:nvPr/>
          </p:nvSpPr>
          <p:spPr>
            <a:xfrm>
              <a:off x="5510160" y="4649760"/>
              <a:ext cx="1771560" cy="16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18c55"/>
                </a:gs>
                <a:gs pos="100000">
                  <a:srgbClr val="e56b1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Chemistr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Thurs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4" name="button day1"/>
            <p:cNvGrpSpPr/>
            <p:nvPr/>
          </p:nvGrpSpPr>
          <p:grpSpPr>
            <a:xfrm>
              <a:off x="6821280" y="5858280"/>
              <a:ext cx="420480" cy="420480"/>
              <a:chOff x="6821280" y="5858280"/>
              <a:chExt cx="420480" cy="420480"/>
            </a:xfrm>
          </p:grpSpPr>
          <p:pic>
            <p:nvPicPr>
              <p:cNvPr id="2445" name="button day1" descr=""/>
              <p:cNvPicPr/>
              <p:nvPr/>
            </p:nvPicPr>
            <p:blipFill>
              <a:blip r:embed="rId27"/>
              <a:stretch/>
            </p:blipFill>
            <p:spPr>
              <a:xfrm>
                <a:off x="6821280" y="5858280"/>
                <a:ext cx="420480" cy="42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6" name=""/>
              <p:cNvSpPr/>
              <p:nvPr/>
            </p:nvSpPr>
            <p:spPr>
              <a:xfrm>
                <a:off x="6887160" y="5923800"/>
                <a:ext cx="288000" cy="2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14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7" name="Group 35"/>
          <p:cNvGrpSpPr/>
          <p:nvPr/>
        </p:nvGrpSpPr>
        <p:grpSpPr>
          <a:xfrm>
            <a:off x="7338960" y="1197000"/>
            <a:ext cx="1771560" cy="1689120"/>
            <a:chOff x="7338960" y="1197000"/>
            <a:chExt cx="1771560" cy="1689120"/>
          </a:xfrm>
        </p:grpSpPr>
        <p:sp>
          <p:nvSpPr>
            <p:cNvPr id="2448" name="Rounded Rectangle 13"/>
            <p:cNvSpPr/>
            <p:nvPr/>
          </p:nvSpPr>
          <p:spPr>
            <a:xfrm>
              <a:off x="7338960" y="1197000"/>
              <a:ext cx="1771560" cy="168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ICT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Fri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9" name="button day1"/>
            <p:cNvGrpSpPr/>
            <p:nvPr/>
          </p:nvGrpSpPr>
          <p:grpSpPr>
            <a:xfrm>
              <a:off x="8643960" y="2414160"/>
              <a:ext cx="414360" cy="420480"/>
              <a:chOff x="8643960" y="2414160"/>
              <a:chExt cx="414360" cy="420480"/>
            </a:xfrm>
          </p:grpSpPr>
          <p:pic>
            <p:nvPicPr>
              <p:cNvPr id="2450" name="button day1" descr=""/>
              <p:cNvPicPr/>
              <p:nvPr/>
            </p:nvPicPr>
            <p:blipFill>
              <a:blip r:embed="rId28"/>
              <a:stretch/>
            </p:blipFill>
            <p:spPr>
              <a:xfrm>
                <a:off x="8643960" y="2414160"/>
                <a:ext cx="414360" cy="42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1" name=""/>
              <p:cNvSpPr/>
              <p:nvPr/>
            </p:nvSpPr>
            <p:spPr>
              <a:xfrm>
                <a:off x="8706960" y="2482200"/>
                <a:ext cx="288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Rounded MT Bold"/>
                  </a:rPr>
                  <a:t>5</a:t>
                </a:r>
                <a:endParaRPr b="1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2" name="Group 36"/>
          <p:cNvGrpSpPr/>
          <p:nvPr/>
        </p:nvGrpSpPr>
        <p:grpSpPr>
          <a:xfrm>
            <a:off x="7338960" y="2924280"/>
            <a:ext cx="1771560" cy="1689120"/>
            <a:chOff x="7338960" y="2924280"/>
            <a:chExt cx="1771560" cy="1689120"/>
          </a:xfrm>
        </p:grpSpPr>
        <p:sp>
          <p:nvSpPr>
            <p:cNvPr id="2453" name="Rounded Rectangle 14"/>
            <p:cNvSpPr/>
            <p:nvPr/>
          </p:nvSpPr>
          <p:spPr>
            <a:xfrm>
              <a:off x="7338960" y="2924280"/>
              <a:ext cx="1771560" cy="168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Foreign Languag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Fri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4" name="button day1"/>
            <p:cNvGrpSpPr/>
            <p:nvPr/>
          </p:nvGrpSpPr>
          <p:grpSpPr>
            <a:xfrm>
              <a:off x="8637840" y="4145400"/>
              <a:ext cx="420480" cy="420480"/>
              <a:chOff x="8637840" y="4145400"/>
              <a:chExt cx="420480" cy="420480"/>
            </a:xfrm>
          </p:grpSpPr>
          <p:pic>
            <p:nvPicPr>
              <p:cNvPr id="2455" name="button day1" descr=""/>
              <p:cNvPicPr/>
              <p:nvPr/>
            </p:nvPicPr>
            <p:blipFill>
              <a:blip r:embed="rId29"/>
              <a:stretch/>
            </p:blipFill>
            <p:spPr>
              <a:xfrm>
                <a:off x="8637840" y="4145400"/>
                <a:ext cx="420480" cy="42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6" name=""/>
              <p:cNvSpPr/>
              <p:nvPr/>
            </p:nvSpPr>
            <p:spPr>
              <a:xfrm>
                <a:off x="8705880" y="4213440"/>
                <a:ext cx="288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10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7" name="Group 45"/>
          <p:cNvGrpSpPr/>
          <p:nvPr/>
        </p:nvGrpSpPr>
        <p:grpSpPr>
          <a:xfrm>
            <a:off x="7338960" y="4649760"/>
            <a:ext cx="1771560" cy="1690560"/>
            <a:chOff x="7338960" y="4649760"/>
            <a:chExt cx="1771560" cy="1690560"/>
          </a:xfrm>
        </p:grpSpPr>
        <p:sp>
          <p:nvSpPr>
            <p:cNvPr id="2458" name="Rounded Rectangle 15"/>
            <p:cNvSpPr/>
            <p:nvPr/>
          </p:nvSpPr>
          <p:spPr>
            <a:xfrm>
              <a:off x="7338960" y="4649760"/>
              <a:ext cx="1771560" cy="169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afaf"/>
                </a:gs>
                <a:gs pos="100000">
                  <a:srgbClr val="929292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‘</a:t>
              </a: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National Language’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ffffff"/>
                  </a:solidFill>
                  <a:latin typeface="Arial Rounded MT Bold"/>
                </a:rPr>
                <a:t>on Friday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button day1"/>
            <p:cNvGrpSpPr/>
            <p:nvPr/>
          </p:nvGrpSpPr>
          <p:grpSpPr>
            <a:xfrm>
              <a:off x="8650080" y="5852160"/>
              <a:ext cx="420480" cy="414360"/>
              <a:chOff x="8650080" y="5852160"/>
              <a:chExt cx="420480" cy="414360"/>
            </a:xfrm>
          </p:grpSpPr>
          <p:pic>
            <p:nvPicPr>
              <p:cNvPr id="2460" name="button day1" descr=""/>
              <p:cNvPicPr/>
              <p:nvPr/>
            </p:nvPicPr>
            <p:blipFill>
              <a:blip r:embed="rId30"/>
              <a:stretch/>
            </p:blipFill>
            <p:spPr>
              <a:xfrm>
                <a:off x="8650080" y="5852160"/>
                <a:ext cx="420480" cy="4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1" name=""/>
              <p:cNvSpPr/>
              <p:nvPr/>
            </p:nvSpPr>
            <p:spPr>
              <a:xfrm>
                <a:off x="8715960" y="5915520"/>
                <a:ext cx="288000" cy="2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Rounded MT Bold"/>
                  </a:rPr>
                  <a:t>15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2" name="Rectangle 5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Book Antiqua"/>
              </a:rPr>
              <a:t>Wipeout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restart="whenNotActive" nodeType="interactiveSeq" fill="hold">
                <p:stCondLst>
                  <p:cond evt="onClick">
                    <p:tgtEl>
                      <p:spTgt spid="2387"/>
                    </p:tgtEl>
                  </p:cond>
                </p:stCondLst>
                <p:childTnLst>
                  <p:par>
                    <p:cTn id="1176" nodeType="clickEffect" fill="hold">
                      <p:stCondLst>
                        <p:cond evt="onClick">
                          <p:tgtEl>
                            <p:spTgt spid="2387"/>
                          </p:tgtEl>
                        </p:cond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9" dur="500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2402"/>
                    </p:tgtEl>
                  </p:cond>
                </p:stCondLst>
                <p:childTnLst>
                  <p:par>
                    <p:cTn id="1183" nodeType="clickEffect" fill="hold">
                      <p:stCondLst>
                        <p:cond evt="onClick">
                          <p:tgtEl>
                            <p:spTgt spid="2402"/>
                          </p:tgtEl>
                        </p:cond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6" dur="500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9" restart="whenNotActive" nodeType="interactiveSeq" fill="hold">
                <p:stCondLst>
                  <p:cond evt="onClick">
                    <p:tgtEl>
                      <p:spTgt spid="2417"/>
                    </p:tgtEl>
                  </p:cond>
                </p:stCondLst>
                <p:childTnLst>
                  <p:par>
                    <p:cTn id="1190" nodeType="clickEffect" fill="hold">
                      <p:stCondLst>
                        <p:cond evt="onClick">
                          <p:tgtEl>
                            <p:spTgt spid="2417"/>
                          </p:tgtEl>
                        </p:cond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3" dur="500"/>
                                        <p:tgtEl>
                                          <p:spTgt spid="2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/>
                                        <p:tgtEl>
                                          <p:spTgt spid="2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2432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2432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0" dur="500"/>
                                        <p:tgtEl>
                                          <p:spTgt spid="2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/>
                                        <p:tgtEl>
                                          <p:spTgt spid="2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3" restart="whenNotActive" nodeType="interactiveSeq" fill="hold">
                <p:stCondLst>
                  <p:cond evt="onClick">
                    <p:tgtEl>
                      <p:spTgt spid="2447"/>
                    </p:tgtEl>
                  </p:cond>
                </p:stCondLst>
                <p:childTnLst>
                  <p:par>
                    <p:cTn id="1204" nodeType="clickEffect" fill="hold">
                      <p:stCondLst>
                        <p:cond evt="onClick">
                          <p:tgtEl>
                            <p:spTgt spid="2447"/>
                          </p:tgtEl>
                        </p:cond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7" dur="500"/>
                                        <p:tgtEl>
                                          <p:spTgt spid="2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/>
                                        <p:tgtEl>
                                          <p:spTgt spid="2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0" restart="whenNotActive" nodeType="interactiveSeq" fill="hold">
                <p:stCondLst>
                  <p:cond evt="onClick">
                    <p:tgtEl>
                      <p:spTgt spid="2452"/>
                    </p:tgtEl>
                  </p:cond>
                </p:stCondLst>
                <p:childTnLst>
                  <p:par>
                    <p:cTn id="1211" nodeType="clickEffect" fill="hold">
                      <p:stCondLst>
                        <p:cond evt="onClick">
                          <p:tgtEl>
                            <p:spTgt spid="2452"/>
                          </p:tgtEl>
                        </p:cond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4" dur="500"/>
                                        <p:tgtEl>
                                          <p:spTgt spid="2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/>
                                        <p:tgtEl>
                                          <p:spTgt spid="2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2437"/>
                    </p:tgtEl>
                  </p:cond>
                </p:stCondLst>
                <p:childTnLst>
                  <p:par>
                    <p:cTn id="1218" nodeType="clickEffect" fill="hold">
                      <p:stCondLst>
                        <p:cond evt="onClick">
                          <p:tgtEl>
                            <p:spTgt spid="2437"/>
                          </p:tgtEl>
                        </p:cond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2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/>
                                        <p:tgtEl>
                                          <p:spTgt spid="2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2422"/>
                    </p:tgtEl>
                  </p:cond>
                </p:stCondLst>
                <p:childTnLst>
                  <p:par>
                    <p:cTn id="1225" nodeType="clickEffect" fill="hold">
                      <p:stCondLst>
                        <p:cond evt="onClick">
                          <p:tgtEl>
                            <p:spTgt spid="2422"/>
                          </p:tgtEl>
                        </p:cond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8" dur="500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1" restart="whenNotActive" nodeType="interactiveSeq" fill="hold">
                <p:stCondLst>
                  <p:cond evt="onClick">
                    <p:tgtEl>
                      <p:spTgt spid="2407"/>
                    </p:tgtEl>
                  </p:cond>
                </p:stCondLst>
                <p:childTnLst>
                  <p:par>
                    <p:cTn id="1232" nodeType="clickEffect" fill="hold">
                      <p:stCondLst>
                        <p:cond evt="onClick">
                          <p:tgtEl>
                            <p:spTgt spid="2407"/>
                          </p:tgtEl>
                        </p:cond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5" dur="500"/>
                                        <p:tgtEl>
                                          <p:spTgt spid="2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/>
                                        <p:tgtEl>
                                          <p:spTgt spid="2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2392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2392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2" dur="500"/>
                                        <p:tgtEl>
                                          <p:spTgt spid="2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/>
                                        <p:tgtEl>
                                          <p:spTgt spid="2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2397"/>
                    </p:tgtEl>
                  </p:cond>
                </p:stCondLst>
                <p:childTnLst>
                  <p:par>
                    <p:cTn id="1246" nodeType="clickEffect" fill="hold">
                      <p:stCondLst>
                        <p:cond evt="onClick">
                          <p:tgtEl>
                            <p:spTgt spid="2397"/>
                          </p:tgtEl>
                        </p:cond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9" dur="500"/>
                                        <p:tgtEl>
                                          <p:spTgt spid="2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/>
                                        <p:tgtEl>
                                          <p:spTgt spid="2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2" restart="whenNotActive" nodeType="interactiveSeq" fill="hold">
                <p:stCondLst>
                  <p:cond evt="onClick">
                    <p:tgtEl>
                      <p:spTgt spid="2412"/>
                    </p:tgtEl>
                  </p:cond>
                </p:stCondLst>
                <p:childTnLst>
                  <p:par>
                    <p:cTn id="1253" nodeType="clickEffect" fill="hold">
                      <p:stCondLst>
                        <p:cond evt="onClick">
                          <p:tgtEl>
                            <p:spTgt spid="2412"/>
                          </p:tgtEl>
                        </p:cond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6" dur="500"/>
                                        <p:tgtEl>
                                          <p:spTgt spid="2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/>
                                        <p:tgtEl>
                                          <p:spTgt spid="2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evt="onClick">
                    <p:tgtEl>
                      <p:spTgt spid="2427"/>
                    </p:tgtEl>
                  </p:cond>
                </p:stCondLst>
                <p:childTnLst>
                  <p:par>
                    <p:cTn id="1260" nodeType="clickEffect" fill="hold">
                      <p:stCondLst>
                        <p:cond evt="onClick">
                          <p:tgtEl>
                            <p:spTgt spid="2427"/>
                          </p:tgtEl>
                        </p:cond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3" dur="500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2442"/>
                    </p:tgtEl>
                  </p:cond>
                </p:stCondLst>
                <p:childTnLst>
                  <p:par>
                    <p:cTn id="1267" nodeType="clickEffect" fill="hold">
                      <p:stCondLst>
                        <p:cond evt="onClick">
                          <p:tgtEl>
                            <p:spTgt spid="2442"/>
                          </p:tgtEl>
                        </p:cond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0" dur="500"/>
                                        <p:tgtEl>
                                          <p:spTgt spid="2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/>
                                        <p:tgtEl>
                                          <p:spTgt spid="2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3" restart="whenNotActive" nodeType="interactiveSeq" fill="hold">
                <p:stCondLst>
                  <p:cond evt="onClick">
                    <p:tgtEl>
                      <p:spTgt spid="2457"/>
                    </p:tgtEl>
                  </p:cond>
                </p:stCondLst>
                <p:childTnLst>
                  <p:par>
                    <p:cTn id="1274" nodeType="clickEffect" fill="hold">
                      <p:stCondLst>
                        <p:cond evt="onClick">
                          <p:tgtEl>
                            <p:spTgt spid="2457"/>
                          </p:tgtEl>
                        </p:cond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7" dur="500"/>
                                        <p:tgtEl>
                                          <p:spTgt spid="2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/>
                                        <p:tgtEl>
                                          <p:spTgt spid="2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Book Antiqua"/>
              </a:rPr>
              <a:t>Gokiburi</a:t>
            </a: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 (Battleship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4" name="Picture 6" descr=""/>
          <p:cNvPicPr/>
          <p:nvPr/>
        </p:nvPicPr>
        <p:blipFill>
          <a:blip r:embed="rId1"/>
          <a:srcRect l="0" t="-2165" r="0" b="0"/>
          <a:stretch/>
        </p:blipFill>
        <p:spPr>
          <a:xfrm>
            <a:off x="5076720" y="1165320"/>
            <a:ext cx="3624480" cy="5368680"/>
          </a:xfrm>
          <a:prstGeom prst="rect">
            <a:avLst/>
          </a:prstGeom>
          <a:ln w="0">
            <a:noFill/>
          </a:ln>
        </p:spPr>
      </p:pic>
      <p:pic>
        <p:nvPicPr>
          <p:cNvPr id="2465" name="Picture 6" descr=""/>
          <p:cNvPicPr/>
          <p:nvPr/>
        </p:nvPicPr>
        <p:blipFill>
          <a:blip r:embed="rId2"/>
          <a:srcRect l="0" t="-1973" r="0" b="0"/>
          <a:stretch/>
        </p:blipFill>
        <p:spPr>
          <a:xfrm>
            <a:off x="395280" y="1165320"/>
            <a:ext cx="35290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Text Box 2"/>
          <p:cNvSpPr/>
          <p:nvPr/>
        </p:nvSpPr>
        <p:spPr>
          <a:xfrm>
            <a:off x="1187280" y="1859040"/>
            <a:ext cx="215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  <a:ea typeface="MS PGothic"/>
              </a:rPr>
              <a:t>あ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 Box 3"/>
          <p:cNvSpPr/>
          <p:nvPr/>
        </p:nvSpPr>
        <p:spPr>
          <a:xfrm>
            <a:off x="6327720" y="2421000"/>
            <a:ext cx="23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  <a:ea typeface="MS PGothic"/>
              </a:rPr>
              <a:t>い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Text Box 4"/>
          <p:cNvSpPr/>
          <p:nvPr/>
        </p:nvSpPr>
        <p:spPr>
          <a:xfrm>
            <a:off x="2565360" y="4076640"/>
            <a:ext cx="230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  <a:ea typeface="MS PGothic"/>
              </a:rPr>
              <a:t>う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Text Box 5"/>
          <p:cNvSpPr/>
          <p:nvPr/>
        </p:nvSpPr>
        <p:spPr>
          <a:xfrm>
            <a:off x="5302080" y="4581360"/>
            <a:ext cx="24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  <a:ea typeface="MS PGothic"/>
              </a:rPr>
              <a:t>え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Text Box 6"/>
          <p:cNvSpPr/>
          <p:nvPr/>
        </p:nvSpPr>
        <p:spPr>
          <a:xfrm>
            <a:off x="3933720" y="1446120"/>
            <a:ext cx="18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  <a:ea typeface="MS PGothic"/>
              </a:rPr>
              <a:t>お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"/>
          <p:cNvSpPr/>
          <p:nvPr/>
        </p:nvSpPr>
        <p:spPr>
          <a:xfrm>
            <a:off x="179280" y="1890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Book Antiqua"/>
              </a:rPr>
              <a:t>Letter karuta &amp; Swatter ga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Text Box 2"/>
          <p:cNvSpPr/>
          <p:nvPr/>
        </p:nvSpPr>
        <p:spPr>
          <a:xfrm>
            <a:off x="971640" y="2060640"/>
            <a:ext cx="215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  <a:ea typeface="MS PGothic"/>
              </a:rPr>
              <a:t>あ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 Box 3"/>
          <p:cNvSpPr/>
          <p:nvPr/>
        </p:nvSpPr>
        <p:spPr>
          <a:xfrm>
            <a:off x="6551640" y="2502000"/>
            <a:ext cx="23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  <a:ea typeface="MS PGothic"/>
              </a:rPr>
              <a:t>い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Text Box 4"/>
          <p:cNvSpPr/>
          <p:nvPr/>
        </p:nvSpPr>
        <p:spPr>
          <a:xfrm>
            <a:off x="2700360" y="4221000"/>
            <a:ext cx="230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  <a:ea typeface="MS PGothic"/>
              </a:rPr>
              <a:t>う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 Box 5"/>
          <p:cNvSpPr/>
          <p:nvPr/>
        </p:nvSpPr>
        <p:spPr>
          <a:xfrm>
            <a:off x="5292720" y="4581360"/>
            <a:ext cx="24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  <a:ea typeface="MS PGothic"/>
              </a:rPr>
              <a:t>え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 Box 6"/>
          <p:cNvSpPr/>
          <p:nvPr/>
        </p:nvSpPr>
        <p:spPr>
          <a:xfrm>
            <a:off x="3851280" y="1557360"/>
            <a:ext cx="18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  <a:ea typeface="MS PGothic"/>
              </a:rPr>
              <a:t>お</a:t>
            </a:r>
            <a:endParaRPr b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1"/>
          <p:cNvSpPr/>
          <p:nvPr/>
        </p:nvSpPr>
        <p:spPr>
          <a:xfrm>
            <a:off x="99360" y="15228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Book Antiqua"/>
              </a:rPr>
              <a:t>Letter nud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" dur="2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2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000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20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str">
                                      <p:cBhvr additive="repl">
                                        <p:cTn id="37" dur="1000" fill="hold"/>
                                        <p:tgtEl>
                                          <p:spTgt spid="2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1000" fill="hold"/>
                                        <p:tgtEl>
                                          <p:spTgt spid="202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Text Box 4"/>
          <p:cNvSpPr/>
          <p:nvPr/>
        </p:nvSpPr>
        <p:spPr>
          <a:xfrm>
            <a:off x="3348000" y="1557360"/>
            <a:ext cx="2736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0" spc="-1" strike="noStrike">
                <a:solidFill>
                  <a:srgbClr val="000000"/>
                </a:solidFill>
                <a:latin typeface="Arial"/>
                <a:ea typeface="MS PGothic"/>
              </a:rPr>
              <a:t>あ</a:t>
            </a:r>
            <a:endParaRPr b="1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AutoShape 5"/>
          <p:cNvSpPr/>
          <p:nvPr/>
        </p:nvSpPr>
        <p:spPr>
          <a:xfrm>
            <a:off x="2843280" y="1484280"/>
            <a:ext cx="3889440" cy="3889440"/>
          </a:xfrm>
          <a:prstGeom prst="smileyFace">
            <a:avLst>
              <a:gd name="adj" fmla="val 9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Rectangle 1"/>
          <p:cNvSpPr/>
          <p:nvPr/>
        </p:nvSpPr>
        <p:spPr>
          <a:xfrm>
            <a:off x="96120" y="189000"/>
            <a:ext cx="34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Book Antiqua"/>
              </a:rPr>
              <a:t>Letter squigg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177 -0.56994 C 0.2842 -0.5637 0.28715 -0.55746 0.28906 -0.55121 C 0.29375 -0.53641 0.30208 -0.50613 0.30208 -0.50589 C 0.30555 -0.47144 0.31337 -0.44277 0.31996 -0.40925 C 0.32292 -0.39514 0.32951 -0.34173 0.33108 -0.32878 C 0.33559 -0.22821 0.33437 -0.12439 0.31649 -0.02543 C 0.30434 0.04162 0.28038 0.12532 0.2434 0.17827 C 0.17222 0.28093 0.08246 0.33688 -0.02257 0.35376 C -0.04167 0.35214 -0.05695 0.34798 -0.07552 0.34405 C -0.08767 0.33318 -0.11597 0.30913 -0.12465 0.29434 C -0.13941 0.2689 -0.1309 0.28069 -0.15 0.25896 C -0.17327 0.20717 -0.16458 0.2296 -0.17778 0.1926 C -0.19479 0.08069 -0.16806 0.00393 -0.1191 -0.08254 C -0.1158 -0.08832 -0.11389 -0.09595 -0.11007 -0.10127 C -0.1059 -0.10705 -0.1 -0.11052 -0.09549 -0.11561 C -0.09097 -0.12092 -0.08733 -0.12717 -0.08264 -0.13225 C -0.07396 -0.1422 -0.06441 -0.15098 -0.05538 -0.16046 C -0.0125 -0.20439 0.00764 -0.22867 0.06302 -0.23861 C 0.08125 -0.23792 0.11198 -0.23954 0.13246 -0.23167 C 0.22326 -0.19792 0.2566 -0.07144 0.26371 0.03861 C 0.26007 0.08463 0.26111 0.117 0.25087 0.157 C 0.23351 0.22451 0.19601 0.25873 0.15608 0.30174 C 0.15173 0.30659 0.14844 0.31376 0.1434 0.31838 C 0.13837 0.32254 0.13229 0.32416 0.12691 0.3274 C 0.10243 0.34335 0.08246 0.35191 0.05573 0.35607 C 0.01423 0.35145 -0.02188 0.3496 -0.05903 0.32532 C -0.08785 0.3059 -0.09913 0.2763 -0.11372 0.23977 C -0.14514 0.16185 -0.15122 0.07584 -0.16476 -0.00902 C -0.16823 -0.05826 -0.17604 -0.10659 -0.17934 -0.15584 C -0.18212 -0.1963 -0.18333 -0.23699 -0.19045 -0.27653 C -0.19392 -0.32485 -0.19913 -0.37156 -0.20677 -0.41896 C -0.21215 -0.45318 -0.21424 -0.48855 -0.21945 -0.52277 C -0.22101 -0.54613 -0.22413 -0.56786 -0.22674 -0.59098 C -0.22847 -0.60994 -0.22674 -0.62913 -0.22674 -0.64832 E">
                                      <p:cBhvr>
                                        <p:cTn id="54" dur="2000" fill="hold"/>
                                        <p:tgtEl>
                                          <p:spTgt spid="2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Text Box 4"/>
          <p:cNvSpPr/>
          <p:nvPr/>
        </p:nvSpPr>
        <p:spPr>
          <a:xfrm>
            <a:off x="3132000" y="1700280"/>
            <a:ext cx="2519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0" spc="-1" strike="noStrike">
                <a:solidFill>
                  <a:srgbClr val="000000"/>
                </a:solidFill>
                <a:latin typeface="Arial"/>
                <a:ea typeface="MS PGothic"/>
              </a:rPr>
              <a:t>う</a:t>
            </a:r>
            <a:endParaRPr b="1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AutoShape 5"/>
          <p:cNvSpPr/>
          <p:nvPr/>
        </p:nvSpPr>
        <p:spPr>
          <a:xfrm>
            <a:off x="2700360" y="1557360"/>
            <a:ext cx="3744720" cy="3600360"/>
          </a:xfrm>
          <a:prstGeom prst="smileyFace">
            <a:avLst>
              <a:gd name="adj" fmla="val 9282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781 -0.28185 C -0.47899 -0.27861 -0.45122 -0.27121 -0.42222 -0.26936 C -0.32309 -0.24647 -0.22205 -0.23584 -0.12222 -0.2185 C 0.00972000000000001 -0.19561 0.14288 -0.16694 0.27621 -0.15722 C 0.30781 -0.15075 0.33958 -0.15121 0.37153 -0.14867 C 0.39687 -0.14451 0.4184 -0.14035 0.44618 -0.15098 C 0.45087 -0.15329 0.44427 -0.1637 0.44288 -0.16994 C 0.4401 -0.18243 0.43246 -0.19977 0.42708 -0.21017 C 0.41562 -0.2326 0.39809 -0.24786 0.3842 -0.26705 C 0.36614 -0.29272 0.34878 -0.31861 0.33021 -0.34335 C 0.3276 -0.35376 0.32448 -0.36 0.3191 -0.36902 C 0.3158 -0.38035 0.31007 -0.3889 0.30642 -0.40023 C 0.30156 -0.41526 0.29653 -0.43306 0.28732 -0.44462 C 0.28316 -0.46775 0.28889 -0.44092 0.28264 -0.45942 C 0.28125 -0.46358 0.27951 -0.47214 0.27951 -0.47191 C 0.27135 -0.46196 0.27239 -0.44116 0.26996 -0.42775 C 0.26823 -0.41873 0.26562 -0.40948 0.26354 -0.40023 C 0.25538 -0.30751 0.24392 -0.21734 0.23976 -0.12347 C 0.23923 -0.09803 0.23854 -0.07283 0.23819 -0.0474 C 0.23698 0.06266 0.23646 0.17249 0.23507 0.28254 C 0.23489 0.29665 0.23403 0.31075 0.23333 0.32439 C 0.23177 0.35538 0.22951 0.3852 0.22708 0.41572 C 0.22587 0.43121 0.22743 0.4511 0.21753 0.4622 C 0.21042 0.47006 0.19132 0.47769 0.18264 0.48116 C 0.14705 0.49549 0.11215 0.50752 0.07465 0.50867 C 0.01545 0.51052 -0.10313 0.51283 -0.10313 0.51306 C -0.15833 0.51075 -0.2125 0.52254 -0.26181 0.48971 C -0.26528 0.48 -0.26823 0.47491 -0.26979 0.46428 C -0.27205 0.4178 -0.27327 0.36555 -0.26337 0.32046 C -0.26024 0.30567 -0.24879 0.29041 -0.24306 0.27792 C -0.22778 0.24786 -0.2132 0.22058 -0.1967 0.19121 C -0.18872 0.17757 -0.1816 0.16254 -0.17292 0.14936 C -0.16927 0.14382 -0.16424 0.13988 -0.16024 0.13457 C -0.15573 0.12856 -0.15174 0.12185 -0.14757 0.11491 C -0.13924 0.10197 -0.13333 0.08902 -0.12379 0.07746 C -0.11927 0.07191 -0.11354 0.06821 -0.10938 0.06266 C -0.08542 0.02936 -0.06511 -0.00809 -0.04115 -0.04092 C -0.02813 -0.05896 -0.01302 -0.07422 -0.00156 -0.09433 C 0.02257 -0.13642 0.04896 -0.17919 0.06996 -0.22497 C 0.08003 -0.24694 0.08854 -0.27029 0.09844 -0.29248 C 0.10972 -0.31746 0.11545 -0.3459 0.12708 -0.37064 C 0.12812 -0.37665 0.12778 -0.38289 0.13021 -0.38821 C 0.13229 -0.39191 0.13524 -0.39584 0.13628 -0.40023 C 0.14028 -0.41364 0.14288 -0.42636 0.1493 -0.43838 C 0.15694 -0.48 0.17153 -0.51491 0.17153 -0.55884 E">
                                      <p:cBhvr>
                                        <p:cTn id="60" dur="2000" fill="hold"/>
                                        <p:tgtEl>
                                          <p:spTgt spid="20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AutoShape 5"/>
          <p:cNvSpPr/>
          <p:nvPr/>
        </p:nvSpPr>
        <p:spPr>
          <a:xfrm>
            <a:off x="1274760" y="112536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な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sum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AutoShape 7"/>
          <p:cNvSpPr/>
          <p:nvPr/>
        </p:nvSpPr>
        <p:spPr>
          <a:xfrm>
            <a:off x="3681360" y="112536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に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w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AutoShape 9"/>
          <p:cNvSpPr/>
          <p:nvPr/>
        </p:nvSpPr>
        <p:spPr>
          <a:xfrm>
            <a:off x="6202440" y="105264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なお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to f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AutoShape 12"/>
          <p:cNvSpPr/>
          <p:nvPr/>
        </p:nvSpPr>
        <p:spPr>
          <a:xfrm>
            <a:off x="2500200" y="184644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かなし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s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AutoShape 13"/>
          <p:cNvSpPr/>
          <p:nvPr/>
        </p:nvSpPr>
        <p:spPr>
          <a:xfrm>
            <a:off x="4978440" y="177336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い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d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AutoShape 16"/>
          <p:cNvSpPr/>
          <p:nvPr/>
        </p:nvSpPr>
        <p:spPr>
          <a:xfrm>
            <a:off x="3724200" y="249408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あ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older br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AutoShape 17"/>
          <p:cNvSpPr/>
          <p:nvPr/>
        </p:nvSpPr>
        <p:spPr>
          <a:xfrm>
            <a:off x="6202440" y="242100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あ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older br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AutoShape 20"/>
          <p:cNvSpPr/>
          <p:nvPr/>
        </p:nvSpPr>
        <p:spPr>
          <a:xfrm>
            <a:off x="1274760" y="249408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ね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AutoShape 21"/>
          <p:cNvSpPr/>
          <p:nvPr/>
        </p:nvSpPr>
        <p:spPr>
          <a:xfrm>
            <a:off x="2457360" y="321300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す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s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AutoShape 22"/>
          <p:cNvSpPr/>
          <p:nvPr/>
        </p:nvSpPr>
        <p:spPr>
          <a:xfrm>
            <a:off x="4978440" y="314172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な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w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AutoShape 24"/>
          <p:cNvSpPr/>
          <p:nvPr/>
        </p:nvSpPr>
        <p:spPr>
          <a:xfrm>
            <a:off x="1233360" y="386064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に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m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AutoShape 25"/>
          <p:cNvSpPr/>
          <p:nvPr/>
        </p:nvSpPr>
        <p:spPr>
          <a:xfrm>
            <a:off x="3754440" y="386064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のー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notebo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AutoShape 26"/>
          <p:cNvSpPr/>
          <p:nvPr/>
        </p:nvSpPr>
        <p:spPr>
          <a:xfrm>
            <a:off x="6202440" y="386064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いのし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bo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AutoShape 27"/>
          <p:cNvSpPr/>
          <p:nvPr/>
        </p:nvSpPr>
        <p:spPr>
          <a:xfrm>
            <a:off x="2457360" y="458136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たのし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f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AutoShape 29"/>
          <p:cNvSpPr/>
          <p:nvPr/>
        </p:nvSpPr>
        <p:spPr>
          <a:xfrm>
            <a:off x="1233360" y="523080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な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sev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AutoShape 30"/>
          <p:cNvSpPr/>
          <p:nvPr/>
        </p:nvSpPr>
        <p:spPr>
          <a:xfrm>
            <a:off x="4978440" y="4581360"/>
            <a:ext cx="1554120" cy="1295640"/>
          </a:xfrm>
          <a:prstGeom prst="hexagon">
            <a:avLst>
              <a:gd name="adj" fmla="val 2998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ね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h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AutoShape 32"/>
          <p:cNvSpPr/>
          <p:nvPr/>
        </p:nvSpPr>
        <p:spPr>
          <a:xfrm>
            <a:off x="6202440" y="522936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たぬ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rac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AutoShape 33"/>
          <p:cNvSpPr/>
          <p:nvPr/>
        </p:nvSpPr>
        <p:spPr>
          <a:xfrm>
            <a:off x="3724200" y="5230800"/>
            <a:ext cx="1554120" cy="1295280"/>
          </a:xfrm>
          <a:prstGeom prst="hexagon">
            <a:avLst>
              <a:gd name="adj" fmla="val 2999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ねくた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PGothic"/>
              </a:rPr>
              <a:t>t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"/>
          <p:cNvSpPr/>
          <p:nvPr/>
        </p:nvSpPr>
        <p:spPr>
          <a:xfrm>
            <a:off x="206280" y="18900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Book Antiqua"/>
              </a:rPr>
              <a:t>Blockbus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2036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2036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0" dur="2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evt="onClick">
                          <p:tgtEl>
                            <p:spTgt spid="2036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2037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203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evt="onClick">
                          <p:tgtEl>
                            <p:spTgt spid="2037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038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2038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203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04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204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evt="onClick">
                          <p:tgtEl>
                            <p:spTgt spid="2043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2039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2039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2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evt="onClick">
                          <p:tgtEl>
                            <p:spTgt spid="2039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041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041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evt="onClick">
                          <p:tgtEl>
                            <p:spTgt spid="2041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040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2040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evt="onClick">
                          <p:tgtEl>
                            <p:spTgt spid="204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042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2042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7" dur="2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evt="onClick">
                          <p:tgtEl>
                            <p:spTgt spid="2042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046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2046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evt="onClick">
                          <p:tgtEl>
                            <p:spTgt spid="2046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044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2044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evt="onClick">
                          <p:tgtEl>
                            <p:spTgt spid="2044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2047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2047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evt="onClick">
                          <p:tgtEl>
                            <p:spTgt spid="2047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045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2045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evt="onClick">
                          <p:tgtEl>
                            <p:spTgt spid="2045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96" dur="20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048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2048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evt="onClick">
                          <p:tgtEl>
                            <p:spTgt spid="2048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49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2049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evt="onClick">
                          <p:tgtEl>
                            <p:spTgt spid="2049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18" dur="2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2051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2051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evt="onClick">
                          <p:tgtEl>
                            <p:spTgt spid="2051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29" dur="20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052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2052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5" dur="20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evt="onClick">
                          <p:tgtEl>
                            <p:spTgt spid="2052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0" dur="20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050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2050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" dur="2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evt="onClick">
                          <p:tgtEl>
                            <p:spTgt spid="2050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053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053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evt="onClick">
                          <p:tgtEl>
                            <p:spTgt spid="2053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0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62" dur="20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Text Box 2"/>
          <p:cNvSpPr/>
          <p:nvPr/>
        </p:nvSpPr>
        <p:spPr>
          <a:xfrm>
            <a:off x="1403280" y="184464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Arial"/>
                <a:ea typeface="MS PGothic"/>
              </a:rPr>
              <a:t>一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Text Box 3"/>
          <p:cNvSpPr/>
          <p:nvPr/>
        </p:nvSpPr>
        <p:spPr>
          <a:xfrm>
            <a:off x="7126200" y="250992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ff66cc"/>
                </a:solidFill>
                <a:latin typeface="Arial"/>
                <a:ea typeface="MS PGothic"/>
              </a:rPr>
              <a:t>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Text Box 4"/>
          <p:cNvSpPr/>
          <p:nvPr/>
        </p:nvSpPr>
        <p:spPr>
          <a:xfrm>
            <a:off x="3000240" y="328608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6699ff"/>
                </a:solidFill>
                <a:latin typeface="Arial"/>
                <a:ea typeface="MS PGothic"/>
              </a:rPr>
              <a:t>三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 Box 5"/>
          <p:cNvSpPr/>
          <p:nvPr/>
        </p:nvSpPr>
        <p:spPr>
          <a:xfrm>
            <a:off x="677880" y="38210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0000cc"/>
                </a:solidFill>
                <a:latin typeface="Arial"/>
                <a:ea typeface="MS PGothic"/>
              </a:rPr>
              <a:t>四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 Box 6"/>
          <p:cNvSpPr/>
          <p:nvPr/>
        </p:nvSpPr>
        <p:spPr>
          <a:xfrm>
            <a:off x="2243160" y="51354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7030a0"/>
                </a:solidFill>
                <a:latin typeface="Arial"/>
                <a:ea typeface="MS PGothic"/>
              </a:rPr>
              <a:t>五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Text Box 7"/>
          <p:cNvSpPr/>
          <p:nvPr/>
        </p:nvSpPr>
        <p:spPr>
          <a:xfrm>
            <a:off x="4500720" y="494172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ff0000"/>
                </a:solidFill>
                <a:latin typeface="Arial"/>
                <a:ea typeface="MS PGothic"/>
              </a:rPr>
              <a:t>六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8"/>
          <p:cNvSpPr/>
          <p:nvPr/>
        </p:nvSpPr>
        <p:spPr>
          <a:xfrm>
            <a:off x="6877080" y="450864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ff6600"/>
                </a:solidFill>
                <a:latin typeface="Arial"/>
                <a:ea typeface="MS PGothic"/>
              </a:rPr>
              <a:t>七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Text Box 9"/>
          <p:cNvSpPr/>
          <p:nvPr/>
        </p:nvSpPr>
        <p:spPr>
          <a:xfrm>
            <a:off x="3792600" y="134136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33cc33"/>
                </a:solidFill>
                <a:latin typeface="Arial"/>
                <a:ea typeface="MS PGothic"/>
              </a:rPr>
              <a:t>八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10"/>
          <p:cNvSpPr/>
          <p:nvPr/>
        </p:nvSpPr>
        <p:spPr>
          <a:xfrm>
            <a:off x="4984920" y="30002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ffff00"/>
                </a:solidFill>
                <a:latin typeface="Arial"/>
                <a:ea typeface="MS PGothic"/>
              </a:rPr>
              <a:t>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ext Box 11"/>
          <p:cNvSpPr/>
          <p:nvPr/>
        </p:nvSpPr>
        <p:spPr>
          <a:xfrm>
            <a:off x="5850000" y="83664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ffffff"/>
                </a:solidFill>
                <a:latin typeface="Arial"/>
                <a:ea typeface="MS PGothic"/>
              </a:rPr>
              <a:t>十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1"/>
          <p:cNvSpPr/>
          <p:nvPr/>
        </p:nvSpPr>
        <p:spPr>
          <a:xfrm>
            <a:off x="218160" y="189000"/>
            <a:ext cx="30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Book Antiqua"/>
              </a:rPr>
              <a:t>Colour b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6" name="Picture 4" descr=""/>
          <p:cNvPicPr/>
          <p:nvPr/>
        </p:nvPicPr>
        <p:blipFill>
          <a:blip r:embed="rId1"/>
          <a:srcRect l="-3031" t="-1387" r="945" b="-1658"/>
          <a:stretch/>
        </p:blipFill>
        <p:spPr>
          <a:xfrm>
            <a:off x="4788000" y="404640"/>
            <a:ext cx="3921120" cy="57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7" name="Rectangle 4"/>
          <p:cNvSpPr/>
          <p:nvPr/>
        </p:nvSpPr>
        <p:spPr>
          <a:xfrm>
            <a:off x="153360" y="18900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Book Antiqua"/>
              </a:rPr>
              <a:t>Count the let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8" name="Picture 5" descr=""/>
          <p:cNvPicPr/>
          <p:nvPr/>
        </p:nvPicPr>
        <p:blipFill>
          <a:blip r:embed="rId2"/>
          <a:srcRect l="-3879" t="-1947" r="-2632" b="-2161"/>
          <a:stretch/>
        </p:blipFill>
        <p:spPr>
          <a:xfrm>
            <a:off x="395280" y="981000"/>
            <a:ext cx="3954600" cy="564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7:16:43Z</dcterms:created>
  <dc:creator>Yasuyo Kidoguchi</dc:creator>
  <dc:description/>
  <dc:language>en-US</dc:language>
  <cp:lastModifiedBy>Josephine Audigier</cp:lastModifiedBy>
  <dcterms:modified xsi:type="dcterms:W3CDTF">2015-03-04T09:53:01Z</dcterms:modified>
  <cp:revision>52</cp:revision>
  <dc:subject/>
  <dc:title>Slide 1</dc:title>
</cp:coreProperties>
</file>